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</p:sldIdLst>
  <p:sldSz cx="6858000" cy="9144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3B5D5-5752-430F-8A47-FC415ED6B9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914AB-C707-4A5F-B815-03CE7730E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2B3DC-40CB-4D8F-B6B4-970A2D653C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D13D3-A389-4BD6-8BA6-31672A5C9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1628D-A2E8-479E-BE48-5ABAF832E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0CD2F-B5C6-478E-8A20-4CFDFA9D81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9D13C-1E07-47F4-87EC-6C324216D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289BB2-3DB6-46B3-9E94-CCB35C84F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35DE3-B7FF-4533-AA09-AB142100B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BCCB2-2D2A-4479-AFCF-B56CD1A5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8D133-1DF0-4966-B380-4867585F0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E97F4-1613-4D7B-995F-A631E41DA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DE890-5F4E-44AF-A82C-6E6FA39B4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9F73D-4A19-4184-A7B6-BC83EAB69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2A2793-388E-419D-B371-9FFE6FF59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897B44-8A14-4E3F-A783-3CC00D0028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7A976-A405-4F67-8C30-B70F4E97D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AB7C5E-379A-4680-AE88-A1AD18AFD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8A45D8-1913-499E-922E-36DA89BC9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5E67B0-D3C7-4CDF-953E-86A25A643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F94796-C891-478A-BEE8-60F35C87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2FA09E-53E7-4144-AFE5-29672430E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553FD-B172-4AB8-BDE7-5E4D04A75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BC0378-7E09-4832-AB99-AC8D9B70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CF5A82-3CCE-4CC8-BAF0-34CE69A7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7BB314-3CAA-4217-89B2-F478B4961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79CA03-6BCA-44D9-AA16-2528FE002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C2DC65-50B4-4C83-A31D-FA60306F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08A0D1-8CC1-49DD-A663-8AE5AD852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34272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242964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4516560" y="5288400"/>
            <a:ext cx="1987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F1E82-F83F-487B-A3BC-9264A230A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CE3C4-FB5A-445A-B601-9ADA0FC485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41897-78FE-44EA-AF60-DD48189B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42720" y="369360"/>
            <a:ext cx="6172200" cy="705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D529-8053-46DF-9848-63149E9A75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52C0-1158-4161-8123-C43C2F13D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505320" y="528840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AB9B-42D8-4581-992C-3887EC721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42720" y="5288400"/>
            <a:ext cx="6172200" cy="28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0FEC7-BCA9-4996-B11B-595E0CFD4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301_Topic 6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l-Amer200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03B13-7CA1-4BB6-B324-677E785AB37B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171360" cy="304812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343080" y="1930320"/>
            <a:ext cx="60577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3048120"/>
            <a:ext cx="171360" cy="304776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6095880"/>
            <a:ext cx="171360" cy="304812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7"/>
          <p:cNvGrpSpPr/>
          <p:nvPr/>
        </p:nvGrpSpPr>
        <p:grpSpPr>
          <a:xfrm>
            <a:off x="171360" y="3852720"/>
            <a:ext cx="6458040" cy="268200"/>
            <a:chOff x="171360" y="3852720"/>
            <a:chExt cx="6458040" cy="268200"/>
          </a:xfrm>
        </p:grpSpPr>
        <p:sp>
          <p:nvSpPr>
            <p:cNvPr id="46" name="Rectangle 8"/>
            <p:cNvSpPr/>
            <p:nvPr/>
          </p:nvSpPr>
          <p:spPr>
            <a:xfrm>
              <a:off x="171360" y="3852720"/>
              <a:ext cx="2152800" cy="2682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2324160" y="3852720"/>
              <a:ext cx="2152800" cy="2682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  <p:sp>
          <p:nvSpPr>
            <p:cNvPr id="48" name="Rectangle 10"/>
            <p:cNvSpPr/>
            <p:nvPr/>
          </p:nvSpPr>
          <p:spPr>
            <a:xfrm>
              <a:off x="4476960" y="3852720"/>
              <a:ext cx="2152440" cy="2682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Verdana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301_Topic 6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l-Amer200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58A2B-67EC-4774-A683-29BBB914EEE7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7"/>
          <p:cNvSpPr/>
          <p:nvPr/>
        </p:nvSpPr>
        <p:spPr>
          <a:xfrm>
            <a:off x="0" y="0"/>
            <a:ext cx="171360" cy="304812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Line 8"/>
          <p:cNvSpPr/>
          <p:nvPr/>
        </p:nvSpPr>
        <p:spPr>
          <a:xfrm>
            <a:off x="343080" y="1930320"/>
            <a:ext cx="60577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Rectangle 9"/>
          <p:cNvSpPr/>
          <p:nvPr/>
        </p:nvSpPr>
        <p:spPr>
          <a:xfrm>
            <a:off x="0" y="3048120"/>
            <a:ext cx="171360" cy="304776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Rectangle 10"/>
          <p:cNvSpPr/>
          <p:nvPr/>
        </p:nvSpPr>
        <p:spPr>
          <a:xfrm>
            <a:off x="0" y="6095880"/>
            <a:ext cx="171360" cy="304812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342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491472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186F2-D187-410B-8F9A-DA569B455171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Date Placeholder 3"/>
          <p:cNvSpPr/>
          <p:nvPr/>
        </p:nvSpPr>
        <p:spPr>
          <a:xfrm>
            <a:off x="343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301_Topic 6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Footer Placeholder 4"/>
          <p:cNvSpPr/>
          <p:nvPr/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l-Amer200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Slide Number Placeholder 5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0281C-5F48-42C6-8E5A-8DAD779CC7B4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he Area Under the Curv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9" name="Object 3"/>
              <p:cNvSpPr txBox="1"/>
              <p:nvPr/>
            </p:nvSpPr>
            <p:spPr>
              <a:xfrm>
                <a:off x="2438280" y="4343400"/>
                <a:ext cx="3353040" cy="113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0" name="Text Box 4"/>
          <p:cNvSpPr/>
          <p:nvPr/>
        </p:nvSpPr>
        <p:spPr>
          <a:xfrm>
            <a:off x="399960" y="2336760"/>
            <a:ext cx="48006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interpretation of the definite integral is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gral = area under the cur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1314360" y="79246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Text Box 6"/>
          <p:cNvSpPr/>
          <p:nvPr/>
        </p:nvSpPr>
        <p:spPr>
          <a:xfrm>
            <a:off x="2400480" y="79246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Text Box 7"/>
          <p:cNvSpPr/>
          <p:nvPr/>
        </p:nvSpPr>
        <p:spPr>
          <a:xfrm>
            <a:off x="2800440" y="58928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8"/>
          <p:cNvSpPr/>
          <p:nvPr/>
        </p:nvSpPr>
        <p:spPr>
          <a:xfrm flipV="1">
            <a:off x="800280" y="3962520"/>
            <a:ext cx="0" cy="3962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Line 9"/>
          <p:cNvSpPr/>
          <p:nvPr/>
        </p:nvSpPr>
        <p:spPr>
          <a:xfrm>
            <a:off x="800280" y="7924680"/>
            <a:ext cx="268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1486080" y="5994360"/>
            <a:ext cx="971280" cy="19303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Oval 11"/>
          <p:cNvSpPr/>
          <p:nvPr/>
        </p:nvSpPr>
        <p:spPr>
          <a:xfrm>
            <a:off x="1486080" y="5689440"/>
            <a:ext cx="971280" cy="609840"/>
          </a:xfrm>
          <a:prstGeom prst="ellipse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Freeform 12"/>
          <p:cNvSpPr/>
          <p:nvPr/>
        </p:nvSpPr>
        <p:spPr>
          <a:xfrm rot="240600">
            <a:off x="1083960" y="5687640"/>
            <a:ext cx="2343240" cy="1709640"/>
          </a:xfrm>
          <a:custGeom>
            <a:avLst/>
            <a:gdLst>
              <a:gd name="textAreaLeft" fmla="*/ 0 w 2343240"/>
              <a:gd name="textAreaRight" fmla="*/ 2343600 w 2343240"/>
              <a:gd name="textAreaTop" fmla="*/ 0 h 1709640"/>
              <a:gd name="textAreaBottom" fmla="*/ 1710000 h 1709640"/>
            </a:gdLst>
            <a:ahLst/>
            <a:rect l="textAreaLeft" t="textAreaTop" r="textAreaRight" b="textAreaBottom"/>
            <a:pathLst>
              <a:path w="1968" h="856">
                <a:moveTo>
                  <a:pt x="0" y="856"/>
                </a:moveTo>
                <a:cubicBezTo>
                  <a:pt x="112" y="564"/>
                  <a:pt x="224" y="272"/>
                  <a:pt x="384" y="136"/>
                </a:cubicBezTo>
                <a:cubicBezTo>
                  <a:pt x="544" y="0"/>
                  <a:pt x="800" y="16"/>
                  <a:pt x="960" y="40"/>
                </a:cubicBezTo>
                <a:cubicBezTo>
                  <a:pt x="1120" y="64"/>
                  <a:pt x="1232" y="208"/>
                  <a:pt x="1344" y="280"/>
                </a:cubicBezTo>
                <a:cubicBezTo>
                  <a:pt x="1456" y="352"/>
                  <a:pt x="1528" y="456"/>
                  <a:pt x="1632" y="472"/>
                </a:cubicBezTo>
                <a:cubicBezTo>
                  <a:pt x="1736" y="488"/>
                  <a:pt x="1912" y="392"/>
                  <a:pt x="1968" y="376"/>
                </a:cubicBezTo>
              </a:path>
            </a:pathLst>
          </a:custGeom>
          <a:noFill/>
          <a:ln w="255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Line 13"/>
          <p:cNvSpPr/>
          <p:nvPr/>
        </p:nvSpPr>
        <p:spPr>
          <a:xfrm>
            <a:off x="2228760" y="7112160"/>
            <a:ext cx="1771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AREA (REMINDER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00048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dd up area of right (left) rectang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ake the limit as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approaches infinity to find true area under the curv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Object 4"/>
              <p:cNvSpPr txBox="1"/>
              <p:nvPr/>
            </p:nvSpPr>
            <p:spPr>
              <a:xfrm>
                <a:off x="685800" y="2844720"/>
                <a:ext cx="4343400" cy="27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Δx</m:t>
                            </m:r>
                          </m:e>
                        </m:nary>
                      </m:e>
                      <m:e>
                        <m:sSub>
                          <m:e>
                            <m:r>
                              <m:t xml:space="preserve">L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t xml:space="preserve">Δ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9" name="Object 6"/>
              <p:cNvSpPr txBox="1"/>
              <p:nvPr/>
            </p:nvSpPr>
            <p:spPr>
              <a:xfrm>
                <a:off x="762120" y="7315200"/>
                <a:ext cx="3927240" cy="104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lim</m:t>
                        </m:r>
                      </m:e>
                      <m:lim>
                        <m:r>
                          <m:t xml:space="preserve">n</m:t>
                        </m:r>
                        <m:r>
                          <m:t xml:space="preserve"> </m:t>
                        </m:r>
                        <m:r>
                          <m:t xml:space="preserve">→</m:t>
                        </m:r>
                        <m:r>
                          <m:t xml:space="preserve"> </m:t>
                        </m:r>
                        <m:r>
                          <m:t xml:space="preserve">∞</m:t>
                        </m:r>
                      </m:lim>
                    </m:limLow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Slide Number Placeholder 5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C850F-7EDA-4171-ACC2-959C3E86F5BD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rapezoid Method</a:t>
            </a:r>
            <a:br>
              <a:rPr sz="4400"/>
            </a:br>
            <a:r>
              <a:rPr b="1" lang="en-US" sz="3000" spc="-1" strike="noStrike">
                <a:solidFill>
                  <a:srgbClr val="999900"/>
                </a:solidFill>
                <a:latin typeface="Garamond"/>
              </a:rPr>
              <a:t>Multiple Application Rule</a:t>
            </a:r>
            <a:endParaRPr b="0" lang="en-US" sz="3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2" name="Text Box 3"/>
          <p:cNvSpPr/>
          <p:nvPr/>
        </p:nvSpPr>
        <p:spPr>
          <a:xfrm>
            <a:off x="4089240" y="79246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Text Box 4"/>
          <p:cNvSpPr/>
          <p:nvPr/>
        </p:nvSpPr>
        <p:spPr>
          <a:xfrm>
            <a:off x="5518080" y="79246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" name="Text Box 5"/>
          <p:cNvSpPr/>
          <p:nvPr/>
        </p:nvSpPr>
        <p:spPr>
          <a:xfrm>
            <a:off x="3200400" y="294624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Line 6"/>
          <p:cNvSpPr/>
          <p:nvPr/>
        </p:nvSpPr>
        <p:spPr>
          <a:xfrm flipV="1">
            <a:off x="3575160" y="31492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Line 7"/>
          <p:cNvSpPr/>
          <p:nvPr/>
        </p:nvSpPr>
        <p:spPr>
          <a:xfrm>
            <a:off x="3575160" y="7112160"/>
            <a:ext cx="268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67" name="Object 8"/>
              <p:cNvSpPr txBox="1"/>
              <p:nvPr/>
            </p:nvSpPr>
            <p:spPr>
              <a:xfrm>
                <a:off x="4049640" y="7213680"/>
                <a:ext cx="1822680" cy="64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68" name="Freeform 9"/>
          <p:cNvSpPr/>
          <p:nvPr/>
        </p:nvSpPr>
        <p:spPr>
          <a:xfrm>
            <a:off x="3860640" y="3843360"/>
            <a:ext cx="2457720" cy="1930320"/>
          </a:xfrm>
          <a:custGeom>
            <a:avLst/>
            <a:gdLst>
              <a:gd name="textAreaLeft" fmla="*/ 0 w 2457720"/>
              <a:gd name="textAreaRight" fmla="*/ 2458080 w 2457720"/>
              <a:gd name="textAreaTop" fmla="*/ 0 h 1930320"/>
              <a:gd name="textAreaBottom" fmla="*/ 1930680 h 1930320"/>
            </a:gdLst>
            <a:ahLst/>
            <a:rect l="textAreaLeft" t="textAreaTop" r="textAreaRight" b="textAreaBottom"/>
            <a:pathLst>
              <a:path w="2064" h="912">
                <a:moveTo>
                  <a:pt x="0" y="488"/>
                </a:moveTo>
                <a:cubicBezTo>
                  <a:pt x="116" y="680"/>
                  <a:pt x="232" y="872"/>
                  <a:pt x="384" y="824"/>
                </a:cubicBezTo>
                <a:cubicBezTo>
                  <a:pt x="536" y="776"/>
                  <a:pt x="744" y="320"/>
                  <a:pt x="912" y="200"/>
                </a:cubicBezTo>
                <a:cubicBezTo>
                  <a:pt x="1080" y="80"/>
                  <a:pt x="1240" y="0"/>
                  <a:pt x="1392" y="104"/>
                </a:cubicBezTo>
                <a:cubicBezTo>
                  <a:pt x="1544" y="208"/>
                  <a:pt x="1712" y="736"/>
                  <a:pt x="1824" y="824"/>
                </a:cubicBezTo>
                <a:cubicBezTo>
                  <a:pt x="1936" y="912"/>
                  <a:pt x="2024" y="664"/>
                  <a:pt x="2064" y="6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Line 10"/>
          <p:cNvSpPr/>
          <p:nvPr/>
        </p:nvSpPr>
        <p:spPr>
          <a:xfrm flipV="1">
            <a:off x="4203720" y="558792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Line 11"/>
          <p:cNvSpPr/>
          <p:nvPr/>
        </p:nvSpPr>
        <p:spPr>
          <a:xfrm flipV="1">
            <a:off x="4603680" y="5079600"/>
            <a:ext cx="0" cy="2032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Line 12"/>
          <p:cNvSpPr/>
          <p:nvPr/>
        </p:nvSpPr>
        <p:spPr>
          <a:xfrm flipV="1">
            <a:off x="5060880" y="4165200"/>
            <a:ext cx="0" cy="29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Line 13"/>
          <p:cNvSpPr/>
          <p:nvPr/>
        </p:nvSpPr>
        <p:spPr>
          <a:xfrm flipV="1">
            <a:off x="5575320" y="4165200"/>
            <a:ext cx="0" cy="294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Line 14"/>
          <p:cNvSpPr/>
          <p:nvPr/>
        </p:nvSpPr>
        <p:spPr>
          <a:xfrm flipV="1">
            <a:off x="4203720" y="5079600"/>
            <a:ext cx="399960" cy="507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Line 15"/>
          <p:cNvSpPr/>
          <p:nvPr/>
        </p:nvSpPr>
        <p:spPr>
          <a:xfrm flipV="1">
            <a:off x="4603680" y="4165560"/>
            <a:ext cx="45720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Line 16"/>
          <p:cNvSpPr/>
          <p:nvPr/>
        </p:nvSpPr>
        <p:spPr>
          <a:xfrm>
            <a:off x="5060880" y="4165560"/>
            <a:ext cx="5144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Rectangle 17"/>
          <p:cNvSpPr/>
          <p:nvPr/>
        </p:nvSpPr>
        <p:spPr>
          <a:xfrm>
            <a:off x="5060880" y="4165560"/>
            <a:ext cx="514440" cy="2946600"/>
          </a:xfrm>
          <a:prstGeom prst="rect">
            <a:avLst/>
          </a:prstGeom>
          <a:solidFill>
            <a:srgbClr val="99cc00">
              <a:alpha val="3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Rectangle 18"/>
          <p:cNvSpPr/>
          <p:nvPr/>
        </p:nvSpPr>
        <p:spPr>
          <a:xfrm>
            <a:off x="4603680" y="5079960"/>
            <a:ext cx="457200" cy="2032200"/>
          </a:xfrm>
          <a:prstGeom prst="rect">
            <a:avLst/>
          </a:prstGeom>
          <a:solidFill>
            <a:srgbClr val="00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AutoShape 19"/>
          <p:cNvSpPr/>
          <p:nvPr/>
        </p:nvSpPr>
        <p:spPr>
          <a:xfrm flipH="1">
            <a:off x="4603680" y="4165560"/>
            <a:ext cx="457200" cy="914400"/>
          </a:xfrm>
          <a:prstGeom prst="rtTriangle">
            <a:avLst/>
          </a:prstGeom>
          <a:solidFill>
            <a:srgbClr val="00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Rectangle 20"/>
          <p:cNvSpPr/>
          <p:nvPr/>
        </p:nvSpPr>
        <p:spPr>
          <a:xfrm>
            <a:off x="4203720" y="5587920"/>
            <a:ext cx="399960" cy="152424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AutoShape 21"/>
          <p:cNvSpPr/>
          <p:nvPr/>
        </p:nvSpPr>
        <p:spPr>
          <a:xfrm flipH="1">
            <a:off x="4203000" y="5079960"/>
            <a:ext cx="399960" cy="507960"/>
          </a:xfrm>
          <a:prstGeom prst="rtTriangle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1" name="Object 22"/>
              <p:cNvSpPr txBox="1"/>
              <p:nvPr/>
            </p:nvSpPr>
            <p:spPr>
              <a:xfrm>
                <a:off x="304920" y="4114800"/>
                <a:ext cx="3187440" cy="21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m of the areas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 the trapezoids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2" name="Object 23"/>
              <p:cNvSpPr txBox="1"/>
              <p:nvPr/>
            </p:nvSpPr>
            <p:spPr>
              <a:xfrm>
                <a:off x="2209680" y="2235240"/>
                <a:ext cx="4648320" cy="1150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r>
                      <m:t xml:space="preserve"> 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83" name="Line 24"/>
          <p:cNvSpPr/>
          <p:nvPr/>
        </p:nvSpPr>
        <p:spPr>
          <a:xfrm flipV="1">
            <a:off x="4832280" y="3454560"/>
            <a:ext cx="0" cy="213336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Text Box 25"/>
          <p:cNvSpPr/>
          <p:nvPr/>
        </p:nvSpPr>
        <p:spPr>
          <a:xfrm>
            <a:off x="6343560" y="690876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1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Slide Number Placeholder 5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55515-E5DB-4A01-B875-A28DF5F5D7A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rapezoid Method</a:t>
            </a:r>
            <a:br>
              <a:rPr sz="4400"/>
            </a:br>
            <a:r>
              <a:rPr b="1" lang="en-US" sz="3000" spc="-1" strike="noStrike">
                <a:solidFill>
                  <a:srgbClr val="999900"/>
                </a:solidFill>
                <a:latin typeface="Garamond"/>
              </a:rPr>
              <a:t>General Formula and special case</a:t>
            </a:r>
            <a:endParaRPr b="0" lang="en-US" sz="30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Object 3"/>
              <p:cNvSpPr txBox="1"/>
              <p:nvPr/>
            </p:nvSpPr>
            <p:spPr>
              <a:xfrm>
                <a:off x="533520" y="2050920"/>
                <a:ext cx="5257800" cy="3357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If the interval is divided into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 segments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not necessarily equal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a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0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≤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n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b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t xml:space="preserve">≈</m:t>
                            </m:r>
                            <m:r>
                              <m:t xml:space="preserve"> </m:t>
                            </m:r>
                          </m:e>
                        </m:nary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88" name="Object 6"/>
              <p:cNvSpPr txBox="1"/>
              <p:nvPr/>
            </p:nvSpPr>
            <p:spPr>
              <a:xfrm>
                <a:off x="457200" y="5486400"/>
                <a:ext cx="6172200" cy="284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Special Case  </m:t>
                        </m:r>
                      </m:e>
                      <m:e>
                        <m:r>
                          <m:t xml:space="preserve">(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iy spaced base points</m:t>
                        </m:r>
                        <m:r>
                          <m:t xml:space="preserve">)</m:t>
                        </m:r>
                      </m:e>
                      <m:e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all   </m:t>
                        </m:r>
                        <m:r>
                          <m:t xml:space="preserve">i</m:t>
                        </m:r>
                      </m:e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 </m:t>
                            </m:r>
                            <m:r>
                              <m:t xml:space="preserve">≈</m:t>
                            </m:r>
                            <m:r>
                              <m:t xml:space="preserve"> </m:t>
                            </m:r>
                          </m:e>
                        </m:nary>
                      </m:e>
                      <m:e>
                        <m:r>
                          <m:t xml:space="preserve">h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0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Slide Number Placeholder 5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ADD9F-87D5-4782-81D1-D6E8C91CBBF5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399960" y="254016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iven a tabulated values of the velocity of an object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3029040" y="2641680"/>
          <a:ext cx="3571920" cy="1768320"/>
        </p:xfrm>
        <a:graphic>
          <a:graphicData uri="http://schemas.openxmlformats.org/drawingml/2006/table">
            <a:tbl>
              <a:tblPr/>
              <a:tblGrid>
                <a:gridCol w="1260360"/>
                <a:gridCol w="577800"/>
                <a:gridCol w="577800"/>
                <a:gridCol w="577800"/>
                <a:gridCol w="578160"/>
              </a:tblGrid>
              <a:tr h="88416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s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416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y (m/s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93" name="Text Box 24"/>
          <p:cNvSpPr/>
          <p:nvPr/>
        </p:nvSpPr>
        <p:spPr>
          <a:xfrm>
            <a:off x="514440" y="6400800"/>
            <a:ext cx="5429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9900"/>
                </a:solidFill>
                <a:latin typeface="Arial"/>
              </a:rPr>
              <a:t>Distance = integral of the velocity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4" name="Object 25"/>
              <p:cNvSpPr txBox="1"/>
              <p:nvPr/>
            </p:nvSpPr>
            <p:spPr>
              <a:xfrm>
                <a:off x="1303200" y="7051680"/>
                <a:ext cx="509760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istance</m:t>
                    </m:r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V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95" name="Rectangle 9"/>
          <p:cNvSpPr/>
          <p:nvPr/>
        </p:nvSpPr>
        <p:spPr>
          <a:xfrm>
            <a:off x="457200" y="4419720"/>
            <a:ext cx="3048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tain an estimate of the distance traveled in the interval [0,3]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Graph of velocity vs tim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297" name="Picture 2" descr=""/>
          <p:cNvPicPr/>
          <p:nvPr/>
        </p:nvPicPr>
        <p:blipFill>
          <a:blip r:embed="rId1"/>
          <a:srcRect l="47533" t="34139" r="0" b="4956"/>
          <a:stretch/>
        </p:blipFill>
        <p:spPr>
          <a:xfrm>
            <a:off x="685800" y="2163600"/>
            <a:ext cx="5829480" cy="50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Slide Number Placeholder 5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B1CC1A-53C8-404D-8C13-F9412BCEFA3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xample 1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2743200" y="2286000"/>
          <a:ext cx="4114800" cy="2149560"/>
        </p:xfrm>
        <a:graphic>
          <a:graphicData uri="http://schemas.openxmlformats.org/drawingml/2006/table">
            <a:tbl>
              <a:tblPr/>
              <a:tblGrid>
                <a:gridCol w="1477800"/>
                <a:gridCol w="570240"/>
                <a:gridCol w="688680"/>
                <a:gridCol w="689040"/>
                <a:gridCol w="689040"/>
              </a:tblGrid>
              <a:tr h="88416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ime (s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26540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5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ty (m/s)</a:t>
                      </a:r>
                      <a:endParaRPr b="0" lang="en-US" sz="25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301" name="Object 23"/>
              <p:cNvSpPr txBox="1"/>
              <p:nvPr/>
            </p:nvSpPr>
            <p:spPr>
              <a:xfrm>
                <a:off x="798480" y="5184720"/>
                <a:ext cx="5108760" cy="308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rapezoid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Method</m:t>
                        </m:r>
                      </m:e>
                      <m:e>
                        <m:r>
                          <m:t xml:space="preserve">h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stance 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(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(</m:t>
                            </m:r>
                            <m:r>
                              <m:t xml:space="preserve">0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14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29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2" name="Object 24"/>
              <p:cNvSpPr txBox="1"/>
              <p:nvPr/>
            </p:nvSpPr>
            <p:spPr>
              <a:xfrm>
                <a:off x="228600" y="1908000"/>
                <a:ext cx="2390760" cy="2884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he interval i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ivided into 3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ubinterval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Base point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e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0,1,2,3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Slide Number Placeholder 5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AF14-776F-4F93-82B0-C42C42C5689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stimating the Error </a:t>
            </a:r>
            <a:br>
              <a:rPr sz="4400"/>
            </a:br>
            <a:r>
              <a:rPr b="1" lang="en-US" sz="3000" spc="-1" strike="noStrike">
                <a:solidFill>
                  <a:srgbClr val="999900"/>
                </a:solidFill>
                <a:latin typeface="Garamond"/>
              </a:rPr>
              <a:t>For Trapezoid method</a:t>
            </a:r>
            <a:r>
              <a:rPr b="1" lang="en-US" sz="3300" spc="-1" strike="noStrike">
                <a:solidFill>
                  <a:srgbClr val="999900"/>
                </a:solidFill>
                <a:latin typeface="Garamond"/>
              </a:rPr>
              <a:t> </a:t>
            </a:r>
            <a:endParaRPr b="0" lang="en-US" sz="33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5" name="Object 3"/>
              <p:cNvSpPr txBox="1"/>
              <p:nvPr/>
            </p:nvSpPr>
            <p:spPr>
              <a:xfrm>
                <a:off x="609480" y="2057400"/>
                <a:ext cx="5791320" cy="624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How many equally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paced intervals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re needed   to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compute  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  5  decimal  digit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accurcy ?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rror in estimating the integral</a:t>
            </a:r>
            <a:br>
              <a:rPr sz="4400"/>
            </a:br>
            <a:r>
              <a:rPr b="1" lang="en-US" sz="3300" spc="-1" strike="noStrike">
                <a:solidFill>
                  <a:srgbClr val="999900"/>
                </a:solidFill>
                <a:latin typeface="Garamond"/>
              </a:rPr>
              <a:t>Theorem</a:t>
            </a:r>
            <a:endParaRPr b="0" lang="en-US" sz="33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07" name="Object 3"/>
              <p:cNvSpPr txBox="1"/>
              <p:nvPr/>
            </p:nvSpPr>
            <p:spPr>
              <a:xfrm>
                <a:off x="0" y="1752480"/>
                <a:ext cx="6892920" cy="716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Assumption:    f'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is continuous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on 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]</m:t>
                        </m:r>
                      </m:e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Equal intervals  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width 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 h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heorem: If Trapezoid Method is used to 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pproximate 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e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sSup>
                          <m:e>
                            <m:r>
                              <m:t xml:space="preserve">f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</m:sup>
                        </m:sSup>
                        <m:r>
                          <m:t xml:space="preserve">(</m:t>
                        </m:r>
                        <m:r>
                          <m:t xml:space="preserve">ξ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ξ</m:t>
                        </m:r>
                        <m:r>
                          <m:t xml:space="preserve">∈</m:t>
                        </m:r>
                        <m:r>
                          <m:t xml:space="preserve">[</m:t>
                        </m:r>
                        <m:r>
                          <m:rPr>
                            <m:lit/>
                            <m:nor/>
                          </m:rPr>
                          <m:t xml:space="preserve">a,b</m:t>
                        </m:r>
                        <m:r>
                          <m:t xml:space="preserve">]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</m:t>
                            </m:r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[</m:t>
                            </m:r>
                            <m:r>
                              <m:t xml:space="preserve">a</m:t>
                            </m:r>
                            <m:r>
                              <m:t xml:space="preserve">,</m:t>
                            </m:r>
                            <m:r>
                              <m:t xml:space="preserve">b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t xml:space="preserve">f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''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2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Slide Number Placeholder 5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BBCF7-D5B1-4464-B6D4-87994A76E0DD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6172200" cy="747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0" name="Object 3"/>
              <p:cNvSpPr txBox="1"/>
              <p:nvPr/>
            </p:nvSpPr>
            <p:spPr>
              <a:xfrm>
                <a:off x="0" y="1143000"/>
                <a:ext cx="6629400" cy="640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rPr>
                            <m:lit/>
                            <m:nor/>
                          </m:rPr>
                          <m:t xml:space="preserve">,              find      h</m:t>
                        </m:r>
                        <m:r>
                          <m:t xml:space="preserve">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o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that</m:t>
                        </m:r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error   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Error  </m:t>
                            </m:r>
                          </m:e>
                        </m:d>
                        <m:r>
                          <m:t xml:space="preserve"> 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r>
                          <m:t xml:space="preserve">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 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x</m:t>
                            </m:r>
                            <m:r>
                              <m:t xml:space="preserve">∈</m:t>
                            </m:r>
                            <m:r>
                              <m:t xml:space="preserve">[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a,b</m:t>
                            </m:r>
                            <m:r>
                              <m:t xml:space="preserve">]</m:t>
                            </m:r>
                          </m:lim>
                        </m:limLow>
                        <m:r>
                          <m:t xml:space="preserve"> 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f''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  </m:t>
                            </m:r>
                          </m:e>
                        </m:d>
                      </m:e>
                      <m:e>
                        <m:r>
                          <m:t xml:space="preserve">b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π;</m:t>
                        </m:r>
                        <m:r>
                          <m:t xml:space="preserve"> </m:t>
                        </m:r>
                        <m:r>
                          <m:t xml:space="preserve">a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0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;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''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  <m:e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f''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</m:e>
                        </m:d>
                        <m:r>
                          <m:t xml:space="preserve">≤</m:t>
                        </m:r>
                        <m:r>
                          <m:t xml:space="preserve">1</m:t>
                        </m:r>
                        <m:r>
                          <m:t xml:space="preserve"> </m:t>
                        </m:r>
                        <m:r>
                          <m:t xml:space="preserve">⇒</m:t>
                        </m:r>
                        <m:d>
                          <m:dPr>
                            <m:begChr m:val="|"/>
                            <m:endChr m:val="|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 Error   </m:t>
                            </m:r>
                          </m:e>
                        </m:d>
                        <m:r>
                          <m:t xml:space="preserve">≤</m:t>
                        </m:r>
                        <m:f>
                          <m:num>
                            <m:r>
                              <m:t xml:space="preserve">π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12</m:t>
                            </m:r>
                          </m:den>
                        </m:f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 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  <m:e>
                        <m:r>
                          <m:t xml:space="preserve"> </m:t>
                        </m:r>
                        <m:r>
                          <m:t xml:space="preserve">⇒</m:t>
                        </m:r>
                        <m:r>
                          <m:t xml:space="preserve"> </m:t>
                        </m:r>
                        <m:sSup>
                          <m:e>
                            <m:r>
                              <m:t xml:space="preserve">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≤</m:t>
                        </m:r>
                        <m:f>
                          <m:num>
                            <m:r>
                              <m:t xml:space="preserve">6</m:t>
                            </m:r>
                          </m:num>
                          <m:den>
                            <m:r>
                              <m:t xml:space="preserve">π</m:t>
                            </m:r>
                          </m:den>
                        </m:f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5</m:t>
                            </m:r>
                          </m:sup>
                        </m:sSup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Garamond"/>
              </a:rPr>
              <a:t>Example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2" name="Object 3"/>
              <p:cNvSpPr txBox="1"/>
              <p:nvPr/>
            </p:nvSpPr>
            <p:spPr>
              <a:xfrm>
                <a:off x="1440" y="3664080"/>
                <a:ext cx="7085160" cy="509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Use       Trapezoid            method 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o        Compute      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rapezoid     </m:t>
                        </m:r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pecial       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Case:</m:t>
                        </m:r>
                        <m:r>
                          <m:t xml:space="preserve"> </m:t>
                        </m:r>
                        <m:r>
                          <m:t xml:space="preserve">h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for    all   i,</m:t>
                        </m:r>
                        <m:r>
                          <m:t xml:space="preserve"> </m:t>
                        </m:r>
                      </m:e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=</m:t>
                        </m:r>
                        <m:r>
                          <m:t xml:space="preserve">h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r>
                                  <m:t xml:space="preserve">n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p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nary>
                            <m:r>
                              <m:t xml:space="preserve"> </m:t>
                            </m:r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0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n</m:t>
                                    </m:r>
                                  </m:sub>
                                </m:sSub>
                                <m:r>
                                  <m:t xml:space="preserve">)</m:t>
                                </m:r>
                              </m:e>
                            </m:d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313" name=""/>
          <p:cNvGraphicFramePr/>
          <p:nvPr/>
        </p:nvGraphicFramePr>
        <p:xfrm>
          <a:off x="685800" y="1981080"/>
          <a:ext cx="5600880" cy="1219320"/>
        </p:xfrm>
        <a:graphic>
          <a:graphicData uri="http://schemas.openxmlformats.org/drawingml/2006/table">
            <a:tbl>
              <a:tblPr/>
              <a:tblGrid>
                <a:gridCol w="933480"/>
                <a:gridCol w="933480"/>
                <a:gridCol w="933480"/>
                <a:gridCol w="933480"/>
                <a:gridCol w="933480"/>
                <a:gridCol w="933480"/>
              </a:tblGrid>
              <a:tr h="60984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(x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.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60840" bIns="6084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.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Date Placeholder 3"/>
          <p:cNvSpPr/>
          <p:nvPr/>
        </p:nvSpPr>
        <p:spPr>
          <a:xfrm>
            <a:off x="343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SE301_Topic 6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Footer Placeholder 4"/>
          <p:cNvSpPr/>
          <p:nvPr/>
        </p:nvSpPr>
        <p:spPr>
          <a:xfrm>
            <a:off x="2343240" y="8331120"/>
            <a:ext cx="217152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Al-Amer2005</a:t>
            </a: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Slide Number Placeholder 5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75555-371F-4C8E-9B28-BD641BE37BA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Numerical Integration Method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628560" y="2844720"/>
            <a:ext cx="5600880" cy="30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umerical integration Methods Covered in this cour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pezoid Rul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son Rul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mberg Metho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auss Quadratur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Ink 4"/>
          <p:cNvSpPr/>
          <p:nvPr/>
        </p:nvSpPr>
        <p:spPr>
          <a:xfrm>
            <a:off x="558720" y="4940280"/>
            <a:ext cx="3216240" cy="1049400"/>
          </a:xfrm>
          <a:custGeom>
            <a:avLst/>
            <a:gdLst/>
            <a:ahLst/>
            <a:rect l="l" t="t" r="r" b="b"/>
            <a:pathLst>
              <a:path w="8931" h="2912">
                <a:moveTo>
                  <a:pt x="1984" y="14122"/>
                </a:moveTo>
                <a:cubicBezTo>
                  <a:pt x="3395" y="14122"/>
                  <a:pt x="4909" y="13968"/>
                  <a:pt x="6284" y="14221"/>
                </a:cubicBezTo>
                <a:cubicBezTo>
                  <a:pt x="6468" y="14255"/>
                  <a:pt x="6661" y="14262"/>
                  <a:pt x="6846" y="14288"/>
                </a:cubicBezTo>
                <a:cubicBezTo>
                  <a:pt x="6274" y="14288"/>
                  <a:pt x="5757" y="14383"/>
                  <a:pt x="5192" y="14453"/>
                </a:cubicBezTo>
                <a:cubicBezTo>
                  <a:pt x="4411" y="14550"/>
                  <a:pt x="3667" y="14618"/>
                  <a:pt x="2877" y="14618"/>
                </a:cubicBezTo>
                <a:cubicBezTo>
                  <a:pt x="2508" y="14618"/>
                  <a:pt x="1974" y="14614"/>
                  <a:pt x="1654" y="14585"/>
                </a:cubicBezTo>
                <a:cubicBezTo>
                  <a:pt x="1676" y="14585"/>
                  <a:pt x="1698" y="14585"/>
                  <a:pt x="1720" y="14585"/>
                </a:cubicBezTo>
                <a:cubicBezTo>
                  <a:pt x="2517" y="14471"/>
                  <a:pt x="3327" y="14519"/>
                  <a:pt x="4134" y="14519"/>
                </a:cubicBezTo>
                <a:cubicBezTo>
                  <a:pt x="6030" y="14519"/>
                  <a:pt x="7927" y="14519"/>
                  <a:pt x="9823" y="14519"/>
                </a:cubicBezTo>
                <a:cubicBezTo>
                  <a:pt x="9418" y="14566"/>
                  <a:pt x="8998" y="14606"/>
                  <a:pt x="8599" y="14684"/>
                </a:cubicBezTo>
                <a:cubicBezTo>
                  <a:pt x="7485" y="14900"/>
                  <a:pt x="6374" y="15130"/>
                  <a:pt x="5259" y="15346"/>
                </a:cubicBezTo>
                <a:cubicBezTo>
                  <a:pt x="4832" y="15429"/>
                  <a:pt x="4443" y="15463"/>
                  <a:pt x="4035" y="15577"/>
                </a:cubicBezTo>
                <a:cubicBezTo>
                  <a:pt x="4166" y="15602"/>
                  <a:pt x="4268" y="15619"/>
                  <a:pt x="4399" y="15643"/>
                </a:cubicBezTo>
                <a:cubicBezTo>
                  <a:pt x="6189" y="15972"/>
                  <a:pt x="8011" y="15875"/>
                  <a:pt x="9823" y="15875"/>
                </a:cubicBezTo>
                <a:cubicBezTo>
                  <a:pt x="10343" y="15875"/>
                  <a:pt x="10119" y="15875"/>
                  <a:pt x="9856" y="15875"/>
                </a:cubicBezTo>
                <a:cubicBezTo>
                  <a:pt x="8693" y="15875"/>
                  <a:pt x="7537" y="15847"/>
                  <a:pt x="6383" y="15974"/>
                </a:cubicBezTo>
                <a:cubicBezTo>
                  <a:pt x="6149" y="16000"/>
                  <a:pt x="5947" y="16032"/>
                  <a:pt x="5722" y="16073"/>
                </a:cubicBezTo>
                <a:cubicBezTo>
                  <a:pt x="5964" y="16086"/>
                  <a:pt x="6571" y="16107"/>
                  <a:pt x="6813" y="16107"/>
                </a:cubicBezTo>
                <a:cubicBezTo>
                  <a:pt x="7782" y="16107"/>
                  <a:pt x="8864" y="16255"/>
                  <a:pt x="9823" y="16073"/>
                </a:cubicBezTo>
                <a:cubicBezTo>
                  <a:pt x="9935" y="16045"/>
                  <a:pt x="9970" y="16053"/>
                  <a:pt x="9988" y="15974"/>
                </a:cubicBezTo>
                <a:cubicBezTo>
                  <a:pt x="9474" y="15711"/>
                  <a:pt x="9079" y="15603"/>
                  <a:pt x="8467" y="15478"/>
                </a:cubicBezTo>
                <a:cubicBezTo>
                  <a:pt x="7076" y="15195"/>
                  <a:pt x="5653" y="14970"/>
                  <a:pt x="4233" y="14916"/>
                </a:cubicBezTo>
                <a:cubicBezTo>
                  <a:pt x="3523" y="14889"/>
                  <a:pt x="2448" y="14800"/>
                  <a:pt x="1720" y="14949"/>
                </a:cubicBezTo>
                <a:cubicBezTo>
                  <a:pt x="1720" y="14960"/>
                  <a:pt x="1720" y="14971"/>
                  <a:pt x="1720" y="14982"/>
                </a:cubicBezTo>
                <a:cubicBezTo>
                  <a:pt x="2034" y="15126"/>
                  <a:pt x="2237" y="15173"/>
                  <a:pt x="2613" y="15214"/>
                </a:cubicBezTo>
                <a:cubicBezTo>
                  <a:pt x="3456" y="15305"/>
                  <a:pt x="4279" y="15346"/>
                  <a:pt x="5126" y="15346"/>
                </a:cubicBezTo>
                <a:cubicBezTo>
                  <a:pt x="5556" y="15346"/>
                  <a:pt x="5986" y="15346"/>
                  <a:pt x="6416" y="15346"/>
                </a:cubicBezTo>
                <a:cubicBezTo>
                  <a:pt x="6329" y="15317"/>
                  <a:pt x="6501" y="15264"/>
                  <a:pt x="6251" y="15247"/>
                </a:cubicBezTo>
                <a:cubicBezTo>
                  <a:pt x="5469" y="15195"/>
                  <a:pt x="4563" y="15146"/>
                  <a:pt x="3803" y="15346"/>
                </a:cubicBezTo>
                <a:cubicBezTo>
                  <a:pt x="3589" y="15402"/>
                  <a:pt x="3485" y="15535"/>
                  <a:pt x="3506" y="15743"/>
                </a:cubicBezTo>
                <a:cubicBezTo>
                  <a:pt x="3550" y="15787"/>
                  <a:pt x="3594" y="15831"/>
                  <a:pt x="3638" y="15875"/>
                </a:cubicBezTo>
                <a:cubicBezTo>
                  <a:pt x="3938" y="16045"/>
                  <a:pt x="4220" y="16180"/>
                  <a:pt x="4564" y="16239"/>
                </a:cubicBezTo>
                <a:cubicBezTo>
                  <a:pt x="5076" y="16326"/>
                  <a:pt x="5602" y="16305"/>
                  <a:pt x="6118" y="16305"/>
                </a:cubicBezTo>
                <a:cubicBezTo>
                  <a:pt x="6263" y="16305"/>
                  <a:pt x="6773" y="16306"/>
                  <a:pt x="6714" y="16040"/>
                </a:cubicBezTo>
                <a:cubicBezTo>
                  <a:pt x="6642" y="15718"/>
                  <a:pt x="6240" y="15574"/>
                  <a:pt x="5953" y="15445"/>
                </a:cubicBezTo>
                <a:cubicBezTo>
                  <a:pt x="5416" y="15203"/>
                  <a:pt x="4821" y="15105"/>
                  <a:pt x="4233" y="15081"/>
                </a:cubicBezTo>
                <a:cubicBezTo>
                  <a:pt x="3664" y="15058"/>
                  <a:pt x="2978" y="15004"/>
                  <a:pt x="2414" y="15114"/>
                </a:cubicBezTo>
                <a:cubicBezTo>
                  <a:pt x="2243" y="15147"/>
                  <a:pt x="1868" y="15208"/>
                  <a:pt x="1753" y="15379"/>
                </a:cubicBezTo>
                <a:cubicBezTo>
                  <a:pt x="1706" y="15448"/>
                  <a:pt x="1711" y="15492"/>
                  <a:pt x="1786" y="15544"/>
                </a:cubicBezTo>
                <a:cubicBezTo>
                  <a:pt x="1903" y="15625"/>
                  <a:pt x="2150" y="15575"/>
                  <a:pt x="2282" y="15577"/>
                </a:cubicBezTo>
                <a:cubicBezTo>
                  <a:pt x="2734" y="15583"/>
                  <a:pt x="3628" y="15587"/>
                  <a:pt x="4002" y="15313"/>
                </a:cubicBezTo>
                <a:cubicBezTo>
                  <a:pt x="4074" y="15260"/>
                  <a:pt x="4082" y="15199"/>
                  <a:pt x="4068" y="15114"/>
                </a:cubicBezTo>
                <a:cubicBezTo>
                  <a:pt x="4048" y="14994"/>
                  <a:pt x="3798" y="14979"/>
                  <a:pt x="3737" y="14949"/>
                </a:cubicBezTo>
                <a:cubicBezTo>
                  <a:pt x="3422" y="15039"/>
                  <a:pt x="3283" y="15157"/>
                  <a:pt x="3010" y="15379"/>
                </a:cubicBezTo>
                <a:cubicBezTo>
                  <a:pt x="2689" y="15640"/>
                  <a:pt x="2382" y="15828"/>
                  <a:pt x="2249" y="16239"/>
                </a:cubicBezTo>
                <a:cubicBezTo>
                  <a:pt x="2203" y="16382"/>
                  <a:pt x="2272" y="16573"/>
                  <a:pt x="2414" y="16636"/>
                </a:cubicBezTo>
                <a:cubicBezTo>
                  <a:pt x="2783" y="16799"/>
                  <a:pt x="3372" y="16485"/>
                  <a:pt x="3671" y="16338"/>
                </a:cubicBezTo>
                <a:cubicBezTo>
                  <a:pt x="3960" y="16195"/>
                  <a:pt x="4103" y="16132"/>
                  <a:pt x="4266" y="15875"/>
                </a:cubicBezTo>
                <a:cubicBezTo>
                  <a:pt x="4266" y="15831"/>
                  <a:pt x="4266" y="15809"/>
                  <a:pt x="4266" y="15776"/>
                </a:cubicBezTo>
                <a:cubicBezTo>
                  <a:pt x="3745" y="15776"/>
                  <a:pt x="3211" y="15723"/>
                  <a:pt x="2712" y="15875"/>
                </a:cubicBezTo>
                <a:cubicBezTo>
                  <a:pt x="2592" y="15957"/>
                  <a:pt x="2396" y="15993"/>
                  <a:pt x="2381" y="16173"/>
                </a:cubicBezTo>
                <a:cubicBezTo>
                  <a:pt x="2373" y="16270"/>
                  <a:pt x="2403" y="16250"/>
                  <a:pt x="2480" y="16272"/>
                </a:cubicBezTo>
                <a:cubicBezTo>
                  <a:pt x="2688" y="16331"/>
                  <a:pt x="3002" y="16090"/>
                  <a:pt x="3175" y="16007"/>
                </a:cubicBezTo>
                <a:cubicBezTo>
                  <a:pt x="3537" y="15833"/>
                  <a:pt x="3915" y="15598"/>
                  <a:pt x="4167" y="15280"/>
                </a:cubicBezTo>
                <a:cubicBezTo>
                  <a:pt x="4321" y="15087"/>
                  <a:pt x="4302" y="14872"/>
                  <a:pt x="4167" y="14684"/>
                </a:cubicBezTo>
                <a:cubicBezTo>
                  <a:pt x="4020" y="14479"/>
                  <a:pt x="3680" y="14353"/>
                  <a:pt x="3440" y="14321"/>
                </a:cubicBezTo>
                <a:cubicBezTo>
                  <a:pt x="3049" y="14268"/>
                  <a:pt x="2617" y="14320"/>
                  <a:pt x="2249" y="14420"/>
                </a:cubicBezTo>
                <a:cubicBezTo>
                  <a:pt x="2005" y="14486"/>
                  <a:pt x="1401" y="14516"/>
                  <a:pt x="1554" y="14717"/>
                </a:cubicBezTo>
                <a:cubicBezTo>
                  <a:pt x="1591" y="14766"/>
                  <a:pt x="1572" y="14787"/>
                  <a:pt x="1654" y="14784"/>
                </a:cubicBezTo>
                <a:cubicBezTo>
                  <a:pt x="1877" y="14775"/>
                  <a:pt x="1986" y="14579"/>
                  <a:pt x="2150" y="14453"/>
                </a:cubicBezTo>
                <a:cubicBezTo>
                  <a:pt x="2253" y="14344"/>
                  <a:pt x="2442" y="14218"/>
                  <a:pt x="2381" y="14023"/>
                </a:cubicBezTo>
                <a:cubicBezTo>
                  <a:pt x="2355" y="13940"/>
                  <a:pt x="2397" y="13984"/>
                  <a:pt x="2315" y="13957"/>
                </a:cubicBezTo>
                <a:cubicBezTo>
                  <a:pt x="2203" y="13921"/>
                  <a:pt x="2126" y="14029"/>
                  <a:pt x="2051" y="14089"/>
                </a:cubicBezTo>
                <a:cubicBezTo>
                  <a:pt x="2036" y="14101"/>
                  <a:pt x="1839" y="14275"/>
                  <a:pt x="1852" y="14288"/>
                </a:cubicBezTo>
                <a:cubicBezTo>
                  <a:pt x="1874" y="14310"/>
                  <a:pt x="2213" y="14090"/>
                  <a:pt x="2216" y="14089"/>
                </a:cubicBezTo>
                <a:cubicBezTo>
                  <a:pt x="2471" y="13995"/>
                  <a:pt x="2830" y="13753"/>
                  <a:pt x="3109" y="13758"/>
                </a:cubicBezTo>
                <a:cubicBezTo>
                  <a:pt x="3164" y="13759"/>
                  <a:pt x="3121" y="13773"/>
                  <a:pt x="3175" y="13791"/>
                </a:cubicBezTo>
                <a:cubicBezTo>
                  <a:pt x="3246" y="13814"/>
                  <a:pt x="3283" y="13970"/>
                  <a:pt x="3340" y="14023"/>
                </a:cubicBezTo>
                <a:cubicBezTo>
                  <a:pt x="3449" y="14124"/>
                  <a:pt x="3501" y="14128"/>
                  <a:pt x="3638" y="14155"/>
                </a:cubicBezTo>
                <a:cubicBezTo>
                  <a:pt x="3972" y="14221"/>
                  <a:pt x="4324" y="14188"/>
                  <a:pt x="4663" y="14188"/>
                </a:cubicBezTo>
                <a:cubicBezTo>
                  <a:pt x="5152" y="14188"/>
                  <a:pt x="5704" y="14254"/>
                  <a:pt x="6185" y="14155"/>
                </a:cubicBezTo>
                <a:cubicBezTo>
                  <a:pt x="6504" y="14089"/>
                  <a:pt x="6336" y="14045"/>
                  <a:pt x="6317" y="14089"/>
                </a:cubicBezTo>
                <a:cubicBezTo>
                  <a:pt x="6171" y="14423"/>
                  <a:pt x="5539" y="14702"/>
                  <a:pt x="5259" y="14916"/>
                </a:cubicBezTo>
                <a:cubicBezTo>
                  <a:pt x="5105" y="15038"/>
                  <a:pt x="5063" y="15073"/>
                  <a:pt x="4961" y="15147"/>
                </a:cubicBezTo>
                <a:cubicBezTo>
                  <a:pt x="5041" y="15107"/>
                  <a:pt x="4918" y="15194"/>
                  <a:pt x="4994" y="15147"/>
                </a:cubicBezTo>
                <a:cubicBezTo>
                  <a:pt x="5425" y="14878"/>
                  <a:pt x="5811" y="14548"/>
                  <a:pt x="6251" y="14288"/>
                </a:cubicBezTo>
                <a:cubicBezTo>
                  <a:pt x="6391" y="14205"/>
                  <a:pt x="7235" y="13681"/>
                  <a:pt x="7408" y="13758"/>
                </a:cubicBezTo>
                <a:cubicBezTo>
                  <a:pt x="7423" y="13765"/>
                  <a:pt x="7170" y="14238"/>
                  <a:pt x="7144" y="14288"/>
                </a:cubicBezTo>
                <a:cubicBezTo>
                  <a:pt x="7064" y="14444"/>
                  <a:pt x="7005" y="14615"/>
                  <a:pt x="6978" y="14784"/>
                </a:cubicBezTo>
                <a:cubicBezTo>
                  <a:pt x="6964" y="14874"/>
                  <a:pt x="6970" y="15007"/>
                  <a:pt x="7011" y="15048"/>
                </a:cubicBezTo>
                <a:cubicBezTo>
                  <a:pt x="7114" y="15150"/>
                  <a:pt x="7310" y="15129"/>
                  <a:pt x="7441" y="15114"/>
                </a:cubicBezTo>
                <a:cubicBezTo>
                  <a:pt x="8005" y="15050"/>
                  <a:pt x="8445" y="14824"/>
                  <a:pt x="8930" y="14552"/>
                </a:cubicBezTo>
                <a:cubicBezTo>
                  <a:pt x="9208" y="14424"/>
                  <a:pt x="9410" y="14289"/>
                  <a:pt x="9657" y="14122"/>
                </a:cubicBezTo>
                <a:cubicBezTo>
                  <a:pt x="9450" y="14302"/>
                  <a:pt x="9268" y="14476"/>
                  <a:pt x="9029" y="14618"/>
                </a:cubicBezTo>
                <a:cubicBezTo>
                  <a:pt x="8769" y="14772"/>
                  <a:pt x="8517" y="14898"/>
                  <a:pt x="8301" y="15114"/>
                </a:cubicBezTo>
                <a:cubicBezTo>
                  <a:pt x="8291" y="15124"/>
                  <a:pt x="8114" y="15271"/>
                  <a:pt x="8136" y="15313"/>
                </a:cubicBezTo>
                <a:cubicBezTo>
                  <a:pt x="8241" y="15507"/>
                  <a:pt x="8540" y="15192"/>
                  <a:pt x="8731" y="15081"/>
                </a:cubicBezTo>
                <a:cubicBezTo>
                  <a:pt x="9024" y="14910"/>
                  <a:pt x="9548" y="14249"/>
                  <a:pt x="9889" y="14221"/>
                </a:cubicBezTo>
                <a:cubicBezTo>
                  <a:pt x="10003" y="14212"/>
                  <a:pt x="9928" y="14145"/>
                  <a:pt x="9922" y="14354"/>
                </a:cubicBezTo>
                <a:cubicBezTo>
                  <a:pt x="9915" y="14589"/>
                  <a:pt x="9698" y="14841"/>
                  <a:pt x="9657" y="15081"/>
                </a:cubicBezTo>
                <a:cubicBezTo>
                  <a:pt x="9630" y="15241"/>
                  <a:pt x="9588" y="15499"/>
                  <a:pt x="9657" y="15610"/>
                </a:cubicBezTo>
                <a:cubicBezTo>
                  <a:pt x="9690" y="15610"/>
                  <a:pt x="9701" y="15610"/>
                  <a:pt x="9723" y="15610"/>
                </a:cubicBezTo>
                <a:cubicBezTo>
                  <a:pt x="9987" y="15542"/>
                  <a:pt x="10311" y="15432"/>
                  <a:pt x="10451" y="15147"/>
                </a:cubicBezTo>
                <a:cubicBezTo>
                  <a:pt x="10573" y="14898"/>
                  <a:pt x="10399" y="14966"/>
                  <a:pt x="10220" y="14949"/>
                </a:cubicBezTo>
                <a:cubicBezTo>
                  <a:pt x="9781" y="14907"/>
                  <a:pt x="9299" y="14938"/>
                  <a:pt x="8864" y="14982"/>
                </a:cubicBezTo>
                <a:cubicBezTo>
                  <a:pt x="8754" y="14993"/>
                  <a:pt x="8643" y="15004"/>
                  <a:pt x="8533" y="15015"/>
                </a:cubicBezTo>
                <a:cubicBezTo>
                  <a:pt x="8490" y="15039"/>
                  <a:pt x="8328" y="15074"/>
                  <a:pt x="8301" y="15114"/>
                </a:cubicBezTo>
                <a:cubicBezTo>
                  <a:pt x="8243" y="15201"/>
                  <a:pt x="8250" y="15315"/>
                  <a:pt x="8334" y="15379"/>
                </a:cubicBezTo>
                <a:cubicBezTo>
                  <a:pt x="8428" y="15450"/>
                  <a:pt x="8653" y="15490"/>
                  <a:pt x="8764" y="15445"/>
                </a:cubicBezTo>
                <a:cubicBezTo>
                  <a:pt x="9100" y="15309"/>
                  <a:pt x="9272" y="14984"/>
                  <a:pt x="9426" y="14684"/>
                </a:cubicBezTo>
                <a:cubicBezTo>
                  <a:pt x="9509" y="14523"/>
                  <a:pt x="9648" y="14334"/>
                  <a:pt x="9492" y="14188"/>
                </a:cubicBezTo>
                <a:cubicBezTo>
                  <a:pt x="9392" y="14095"/>
                  <a:pt x="8899" y="14155"/>
                  <a:pt x="8797" y="14155"/>
                </a:cubicBezTo>
                <a:cubicBezTo>
                  <a:pt x="8402" y="14155"/>
                  <a:pt x="8046" y="14194"/>
                  <a:pt x="7673" y="14321"/>
                </a:cubicBezTo>
                <a:cubicBezTo>
                  <a:pt x="7531" y="14369"/>
                  <a:pt x="7444" y="14389"/>
                  <a:pt x="7441" y="14552"/>
                </a:cubicBezTo>
                <a:cubicBezTo>
                  <a:pt x="7439" y="14647"/>
                  <a:pt x="7464" y="14669"/>
                  <a:pt x="7508" y="14751"/>
                </a:cubicBezTo>
                <a:cubicBezTo>
                  <a:pt x="7538" y="14781"/>
                  <a:pt x="7544" y="14792"/>
                  <a:pt x="7574" y="14784"/>
                </a:cubicBezTo>
                <a:cubicBezTo>
                  <a:pt x="8017" y="14784"/>
                  <a:pt x="8405" y="14753"/>
                  <a:pt x="8764" y="14453"/>
                </a:cubicBezTo>
                <a:cubicBezTo>
                  <a:pt x="8888" y="14350"/>
                  <a:pt x="9124" y="14154"/>
                  <a:pt x="8996" y="14056"/>
                </a:cubicBezTo>
                <a:cubicBezTo>
                  <a:pt x="8827" y="13925"/>
                  <a:pt x="8168" y="14124"/>
                  <a:pt x="8004" y="14155"/>
                </a:cubicBezTo>
                <a:cubicBezTo>
                  <a:pt x="7768" y="14200"/>
                  <a:pt x="6879" y="14226"/>
                  <a:pt x="6714" y="14420"/>
                </a:cubicBezTo>
                <a:cubicBezTo>
                  <a:pt x="6665" y="14478"/>
                  <a:pt x="6702" y="14437"/>
                  <a:pt x="6813" y="14453"/>
                </a:cubicBezTo>
                <a:cubicBezTo>
                  <a:pt x="6988" y="14479"/>
                  <a:pt x="7095" y="14412"/>
                  <a:pt x="7243" y="14387"/>
                </a:cubicBezTo>
                <a:cubicBezTo>
                  <a:pt x="7276" y="14387"/>
                  <a:pt x="7309" y="14387"/>
                  <a:pt x="7342" y="1438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Slide Number Placeholder 5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4F58E-F7FB-4652-85D0-EC372AAE9893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Upper and Lower S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Text Box 3"/>
          <p:cNvSpPr/>
          <p:nvPr/>
        </p:nvSpPr>
        <p:spPr>
          <a:xfrm>
            <a:off x="4514760" y="792468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5657760" y="792468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 Box 5"/>
          <p:cNvSpPr/>
          <p:nvPr/>
        </p:nvSpPr>
        <p:spPr>
          <a:xfrm>
            <a:off x="4172040" y="447048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Line 6"/>
          <p:cNvSpPr/>
          <p:nvPr/>
        </p:nvSpPr>
        <p:spPr>
          <a:xfrm flipV="1">
            <a:off x="4000680" y="335232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Line 7"/>
          <p:cNvSpPr/>
          <p:nvPr/>
        </p:nvSpPr>
        <p:spPr>
          <a:xfrm>
            <a:off x="4000680" y="7315200"/>
            <a:ext cx="268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Rectangle 8"/>
          <p:cNvSpPr/>
          <p:nvPr/>
        </p:nvSpPr>
        <p:spPr>
          <a:xfrm>
            <a:off x="4629240" y="5892840"/>
            <a:ext cx="399960" cy="142236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5029200" y="5689440"/>
            <a:ext cx="343080" cy="162576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Rectangle 10"/>
          <p:cNvSpPr/>
          <p:nvPr/>
        </p:nvSpPr>
        <p:spPr>
          <a:xfrm>
            <a:off x="4629240" y="5689440"/>
            <a:ext cx="399960" cy="20340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Freeform 11"/>
          <p:cNvSpPr/>
          <p:nvPr/>
        </p:nvSpPr>
        <p:spPr>
          <a:xfrm>
            <a:off x="4114800" y="4267080"/>
            <a:ext cx="2114640" cy="1625760"/>
          </a:xfrm>
          <a:custGeom>
            <a:avLst/>
            <a:gdLst>
              <a:gd name="textAreaLeft" fmla="*/ 0 w 2114640"/>
              <a:gd name="textAreaRight" fmla="*/ 2115000 w 2114640"/>
              <a:gd name="textAreaTop" fmla="*/ 0 h 1625760"/>
              <a:gd name="textAreaBottom" fmla="*/ 1626120 h 1625760"/>
            </a:gdLst>
            <a:ahLst/>
            <a:rect l="textAreaLeft" t="textAreaTop" r="textAreaRight" b="textAreaBottom"/>
            <a:pathLst>
              <a:path w="1344" h="528">
                <a:moveTo>
                  <a:pt x="0" y="192"/>
                </a:moveTo>
                <a:cubicBezTo>
                  <a:pt x="180" y="360"/>
                  <a:pt x="360" y="528"/>
                  <a:pt x="480" y="528"/>
                </a:cubicBezTo>
                <a:cubicBezTo>
                  <a:pt x="600" y="528"/>
                  <a:pt x="648" y="280"/>
                  <a:pt x="720" y="192"/>
                </a:cubicBezTo>
                <a:cubicBezTo>
                  <a:pt x="792" y="104"/>
                  <a:pt x="832" y="0"/>
                  <a:pt x="912" y="0"/>
                </a:cubicBezTo>
                <a:cubicBezTo>
                  <a:pt x="992" y="0"/>
                  <a:pt x="1128" y="136"/>
                  <a:pt x="1200" y="192"/>
                </a:cubicBezTo>
                <a:cubicBezTo>
                  <a:pt x="1272" y="248"/>
                  <a:pt x="1308" y="292"/>
                  <a:pt x="1344" y="336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Rectangle 12"/>
          <p:cNvSpPr/>
          <p:nvPr/>
        </p:nvSpPr>
        <p:spPr>
          <a:xfrm>
            <a:off x="5029200" y="4572000"/>
            <a:ext cx="343080" cy="111744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Rectangle 13"/>
          <p:cNvSpPr/>
          <p:nvPr/>
        </p:nvSpPr>
        <p:spPr>
          <a:xfrm>
            <a:off x="5372280" y="4572000"/>
            <a:ext cx="342720" cy="274320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Rectangle 14"/>
          <p:cNvSpPr/>
          <p:nvPr/>
        </p:nvSpPr>
        <p:spPr>
          <a:xfrm>
            <a:off x="5372280" y="4267080"/>
            <a:ext cx="342720" cy="30492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0" name="Object 15"/>
              <p:cNvSpPr txBox="1"/>
              <p:nvPr/>
            </p:nvSpPr>
            <p:spPr>
              <a:xfrm>
                <a:off x="4514760" y="7416720"/>
                <a:ext cx="1600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Object 16"/>
              <p:cNvSpPr txBox="1"/>
              <p:nvPr/>
            </p:nvSpPr>
            <p:spPr>
              <a:xfrm>
                <a:off x="457200" y="2895480"/>
                <a:ext cx="4724280" cy="148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72" name="Text Box 17"/>
          <p:cNvSpPr/>
          <p:nvPr/>
        </p:nvSpPr>
        <p:spPr>
          <a:xfrm>
            <a:off x="285840" y="2235240"/>
            <a:ext cx="377172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e interval is divided into subinterval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Rectangle 18"/>
          <p:cNvSpPr/>
          <p:nvPr/>
        </p:nvSpPr>
        <p:spPr>
          <a:xfrm>
            <a:off x="533520" y="3429000"/>
            <a:ext cx="914400" cy="20304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Rectangle 19"/>
          <p:cNvSpPr/>
          <p:nvPr/>
        </p:nvSpPr>
        <p:spPr>
          <a:xfrm>
            <a:off x="609480" y="4419720"/>
            <a:ext cx="914400" cy="20304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Rectangle 20"/>
          <p:cNvSpPr/>
          <p:nvPr/>
        </p:nvSpPr>
        <p:spPr>
          <a:xfrm>
            <a:off x="609480" y="4191120"/>
            <a:ext cx="914400" cy="20304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Slide Number Placeholder 5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911E-89C0-4DD2-B0D3-1FBC0B616E12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Garamond"/>
              </a:rPr>
              <a:t>Upper and Lower S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4514760" y="8026560"/>
            <a:ext cx="2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4"/>
          <p:cNvSpPr/>
          <p:nvPr/>
        </p:nvSpPr>
        <p:spPr>
          <a:xfrm>
            <a:off x="5657760" y="8026560"/>
            <a:ext cx="22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4172040" y="436896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Line 6"/>
          <p:cNvSpPr/>
          <p:nvPr/>
        </p:nvSpPr>
        <p:spPr>
          <a:xfrm flipV="1">
            <a:off x="4000680" y="325080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Line 7"/>
          <p:cNvSpPr/>
          <p:nvPr/>
        </p:nvSpPr>
        <p:spPr>
          <a:xfrm>
            <a:off x="4000680" y="7213680"/>
            <a:ext cx="2685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Rectangle 8"/>
          <p:cNvSpPr/>
          <p:nvPr/>
        </p:nvSpPr>
        <p:spPr>
          <a:xfrm>
            <a:off x="4629240" y="5791320"/>
            <a:ext cx="399960" cy="142236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Rectangle 9"/>
          <p:cNvSpPr/>
          <p:nvPr/>
        </p:nvSpPr>
        <p:spPr>
          <a:xfrm>
            <a:off x="5029200" y="5587920"/>
            <a:ext cx="343080" cy="162576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Rectangle 10"/>
          <p:cNvSpPr/>
          <p:nvPr/>
        </p:nvSpPr>
        <p:spPr>
          <a:xfrm>
            <a:off x="4629240" y="5587920"/>
            <a:ext cx="399960" cy="20340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Freeform 11"/>
          <p:cNvSpPr/>
          <p:nvPr/>
        </p:nvSpPr>
        <p:spPr>
          <a:xfrm>
            <a:off x="4114800" y="4205160"/>
            <a:ext cx="2114640" cy="1586160"/>
          </a:xfrm>
          <a:custGeom>
            <a:avLst/>
            <a:gdLst>
              <a:gd name="textAreaLeft" fmla="*/ 0 w 2114640"/>
              <a:gd name="textAreaRight" fmla="*/ 2115000 w 2114640"/>
              <a:gd name="textAreaTop" fmla="*/ 0 h 1586160"/>
              <a:gd name="textAreaBottom" fmla="*/ 1586520 h 1586160"/>
            </a:gdLst>
            <a:ahLst/>
            <a:rect l="textAreaLeft" t="textAreaTop" r="textAreaRight" b="textAreaBottom"/>
            <a:pathLst>
              <a:path w="1776" h="749">
                <a:moveTo>
                  <a:pt x="0" y="260"/>
                </a:moveTo>
                <a:cubicBezTo>
                  <a:pt x="238" y="505"/>
                  <a:pt x="476" y="749"/>
                  <a:pt x="634" y="749"/>
                </a:cubicBezTo>
                <a:cubicBezTo>
                  <a:pt x="793" y="749"/>
                  <a:pt x="849" y="385"/>
                  <a:pt x="951" y="260"/>
                </a:cubicBezTo>
                <a:cubicBezTo>
                  <a:pt x="1053" y="135"/>
                  <a:pt x="1142" y="0"/>
                  <a:pt x="1248" y="0"/>
                </a:cubicBezTo>
                <a:cubicBezTo>
                  <a:pt x="1354" y="0"/>
                  <a:pt x="1498" y="182"/>
                  <a:pt x="1586" y="260"/>
                </a:cubicBezTo>
                <a:cubicBezTo>
                  <a:pt x="1674" y="338"/>
                  <a:pt x="1728" y="406"/>
                  <a:pt x="1776" y="47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Rectangle 12"/>
          <p:cNvSpPr/>
          <p:nvPr/>
        </p:nvSpPr>
        <p:spPr>
          <a:xfrm>
            <a:off x="5029200" y="4470480"/>
            <a:ext cx="343080" cy="111744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Rectangle 13"/>
          <p:cNvSpPr/>
          <p:nvPr/>
        </p:nvSpPr>
        <p:spPr>
          <a:xfrm>
            <a:off x="5372280" y="4470480"/>
            <a:ext cx="342720" cy="2743200"/>
          </a:xfrm>
          <a:prstGeom prst="rect">
            <a:avLst/>
          </a:prstGeom>
          <a:solidFill>
            <a:srgbClr val="99cc00">
              <a:alpha val="4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Rectangle 14"/>
          <p:cNvSpPr/>
          <p:nvPr/>
        </p:nvSpPr>
        <p:spPr>
          <a:xfrm>
            <a:off x="5372280" y="4165560"/>
            <a:ext cx="342720" cy="304920"/>
          </a:xfrm>
          <a:prstGeom prst="rect">
            <a:avLst/>
          </a:prstGeom>
          <a:solidFill>
            <a:srgbClr val="993366">
              <a:alpha val="54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0" name="Object 15"/>
              <p:cNvSpPr txBox="1"/>
              <p:nvPr/>
            </p:nvSpPr>
            <p:spPr>
              <a:xfrm>
                <a:off x="4514760" y="7315200"/>
                <a:ext cx="160020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 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1" name="Object 16"/>
              <p:cNvSpPr txBox="1"/>
              <p:nvPr/>
            </p:nvSpPr>
            <p:spPr>
              <a:xfrm>
                <a:off x="533520" y="1981080"/>
                <a:ext cx="5029200" cy="348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/>
                      <m:e>
                        <m:r>
                          <m:rPr>
                            <m:lit/>
                            <m:nor/>
                          </m:rPr>
                          <m:t xml:space="preserve">Low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t xml:space="preserve"> 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Upper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sum</m:t>
                        </m:r>
                        <m:r>
                          <m:t xml:space="preserve"> </m:t>
                        </m:r>
                        <m:r>
                          <m:t xml:space="preserve">U</m:t>
                        </m:r>
                        <m:r>
                          <m:t xml:space="preserve">(</m:t>
                        </m:r>
                        <m:r>
                          <m:t xml:space="preserve">f</m:t>
                        </m:r>
                        <m:r>
                          <m:t xml:space="preserve">,</m:t>
                        </m:r>
                        <m:r>
                          <m:t xml:space="preserve">P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n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  <m:e>
                            <m:sSub>
                              <m:e>
                                <m:r>
                                  <m:t xml:space="preserve">M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stimate of the integral 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L</m:t>
                            </m:r>
                            <m:r>
                              <m:t xml:space="preserve">+</m:t>
                            </m:r>
                            <m:r>
                              <m:t xml:space="preserve">U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Error</m:t>
                        </m:r>
                        <m:r>
                          <m:t xml:space="preserve">≤</m:t>
                        </m:r>
                        <m:f>
                          <m:num>
                            <m:r>
                              <m:t xml:space="preserve">U</m:t>
                            </m:r>
                            <m:r>
                              <m:t xml:space="preserve">−</m:t>
                            </m:r>
                            <m:r>
                              <m:t xml:space="preserve">L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92" name="Rectangle 17"/>
          <p:cNvSpPr/>
          <p:nvPr/>
        </p:nvSpPr>
        <p:spPr>
          <a:xfrm>
            <a:off x="609480" y="2438280"/>
            <a:ext cx="914400" cy="711360"/>
          </a:xfrm>
          <a:prstGeom prst="rect">
            <a:avLst/>
          </a:prstGeom>
          <a:solidFill>
            <a:srgbClr val="99cc00">
              <a:alpha val="3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Rectangle 18"/>
          <p:cNvSpPr/>
          <p:nvPr/>
        </p:nvSpPr>
        <p:spPr>
          <a:xfrm>
            <a:off x="533520" y="3352680"/>
            <a:ext cx="914400" cy="406440"/>
          </a:xfrm>
          <a:prstGeom prst="rect">
            <a:avLst/>
          </a:prstGeom>
          <a:solidFill>
            <a:srgbClr val="993366">
              <a:alpha val="32000"/>
            </a:srgbClr>
          </a:solidFill>
          <a:ln w="9360">
            <a:solidFill>
              <a:srgbClr val="99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Rectangle 19"/>
          <p:cNvSpPr/>
          <p:nvPr/>
        </p:nvSpPr>
        <p:spPr>
          <a:xfrm>
            <a:off x="533520" y="3733920"/>
            <a:ext cx="914400" cy="406440"/>
          </a:xfrm>
          <a:prstGeom prst="rect">
            <a:avLst/>
          </a:prstGeom>
          <a:solidFill>
            <a:srgbClr val="99cc00">
              <a:alpha val="35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Slide Number Placeholder 5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6ECAA-EE02-4A6A-8014-2CFBCFA95C81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Upper and Lower Sum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4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stimates based on Upper and Lower Sums are easy to obtain for </a:t>
            </a:r>
            <a:r>
              <a:rPr b="1" lang="en-US" sz="2800" spc="-1" strike="noStrike" u="sng">
                <a:solidFill>
                  <a:srgbClr val="ff0000"/>
                </a:solidFill>
                <a:uFillTx/>
                <a:latin typeface="Verdana"/>
              </a:rPr>
              <a:t>monotonic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functions (</a:t>
            </a: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always  increasing or always decreasing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749"/>
              </a:spcBef>
              <a:buClr>
                <a:srgbClr val="000000"/>
              </a:buClr>
              <a:buSzPct val="7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r non-monotonic functions, finding maximum and minimum of the function can be difficult and  other methods can  be  more attractive.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Slide Number Placeholder 6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114F8-5BCB-4313-A13B-731E710445EC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wton-Cotes Method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56577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uting the integral of a polynomial is easy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1" name="Object 4"/>
              <p:cNvSpPr txBox="1"/>
              <p:nvPr/>
            </p:nvSpPr>
            <p:spPr>
              <a:xfrm>
                <a:off x="304920" y="5384880"/>
                <a:ext cx="6553080" cy="2347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≈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.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n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n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0</m:t>
                                </m:r>
                              </m:sub>
                            </m:sSub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f>
                              <m:num>
                                <m:r>
                                  <m:t xml:space="preserve">(</m:t>
                                </m:r>
                                <m:sSup>
                                  <m:e>
                                    <m:r>
                                      <m:t xml:space="preserve">b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a</m:t>
                                    </m:r>
                                  </m:e>
                                  <m:sup>
                                    <m:r>
                                      <m:t xml:space="preserve">n</m:t>
                                    </m:r>
                                    <m:r>
                                      <m:t xml:space="preserve">+</m:t>
                                    </m:r>
                                    <m:r>
                                      <m:t xml:space="preserve">1</m:t>
                                    </m:r>
                                  </m:sup>
                                </m:sSup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n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1</m:t>
                                </m:r>
                              </m:den>
                            </m:f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Slide Number Placeholder 6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E16D1-747E-4E3B-AFAF-6AF5F16B5EC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Newton-Cotes Method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43080" y="2133360"/>
            <a:ext cx="611496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Trapezoid Method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First Order Polynomial are used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Verdana"/>
              </a:rPr>
              <a:t>Simpson 1/3 Rule 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(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Second Order Polynomial are used</a:t>
            </a:r>
            <a:r>
              <a:rPr b="0" lang="en-US" sz="2000" spc="-1" strike="noStrike">
                <a:solidFill>
                  <a:srgbClr val="ff0000"/>
                </a:solidFill>
                <a:latin typeface="Verdan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5" name="Object 4"/>
              <p:cNvSpPr txBox="1"/>
              <p:nvPr/>
            </p:nvSpPr>
            <p:spPr>
              <a:xfrm>
                <a:off x="304920" y="3117960"/>
                <a:ext cx="6248160" cy="430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≈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x</m:t>
                                    </m:r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  <m:e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≈</m:t>
                            </m:r>
                            <m:nary>
                              <m:naryPr>
                                <m:chr m:val="∫"/>
                                <m:subHide m:val="1"/>
                                <m:supHide m:val="1"/>
                              </m:naryPr>
                              <m:sub/>
                              <m:sup/>
                              <m:e>
                                <m:r>
                                  <m:t xml:space="preserve"> </m:t>
                                </m:r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0</m:t>
                                        </m:r>
                                      </m:sub>
                                    </m:sSub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  <m:r>
                                      <m:t xml:space="preserve">x</m:t>
                                    </m:r>
                                    <m:r>
                                      <m:t xml:space="preserve">+</m:t>
                                    </m:r>
                                    <m:sSub>
                                      <m:e>
                                        <m:r>
                                          <m:t xml:space="preserve">a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  <m:sSup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p>
                                  </m:e>
                                </m:d>
                                <m:r>
                                  <m:rPr>
                                    <m:lit/>
                                    <m:nor/>
                                  </m:rPr>
                                  <m:t xml:space="preserve">dx</m:t>
                                </m:r>
                              </m:e>
                            </m:nary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06" name="Ink 5"/>
          <p:cNvSpPr/>
          <p:nvPr/>
        </p:nvSpPr>
        <p:spPr>
          <a:xfrm>
            <a:off x="4191120" y="2513160"/>
            <a:ext cx="1108080" cy="511200"/>
          </a:xfrm>
          <a:custGeom>
            <a:avLst/>
            <a:gdLst/>
            <a:ahLst/>
            <a:rect l="l" t="t" r="r" b="b"/>
            <a:pathLst>
              <a:path w="3076" h="1424">
                <a:moveTo>
                  <a:pt x="11642" y="7045"/>
                </a:moveTo>
                <a:cubicBezTo>
                  <a:pt x="11695" y="7038"/>
                  <a:pt x="11733" y="7019"/>
                  <a:pt x="11774" y="7011"/>
                </a:cubicBezTo>
                <a:cubicBezTo>
                  <a:pt x="11843" y="6997"/>
                  <a:pt x="11906" y="6982"/>
                  <a:pt x="11972" y="6978"/>
                </a:cubicBezTo>
                <a:cubicBezTo>
                  <a:pt x="12695" y="6938"/>
                  <a:pt x="13524" y="6917"/>
                  <a:pt x="14221" y="7011"/>
                </a:cubicBezTo>
                <a:cubicBezTo>
                  <a:pt x="14283" y="7019"/>
                  <a:pt x="14338" y="7035"/>
                  <a:pt x="14387" y="7045"/>
                </a:cubicBezTo>
                <a:cubicBezTo>
                  <a:pt x="14487" y="7066"/>
                  <a:pt x="14614" y="7045"/>
                  <a:pt x="14717" y="7045"/>
                </a:cubicBezTo>
              </a:path>
              <a:path w="3076" h="1424">
                <a:moveTo>
                  <a:pt x="12932" y="7342"/>
                </a:moveTo>
                <a:cubicBezTo>
                  <a:pt x="12932" y="7585"/>
                  <a:pt x="12917" y="7848"/>
                  <a:pt x="12965" y="8070"/>
                </a:cubicBezTo>
                <a:cubicBezTo>
                  <a:pt x="12974" y="8114"/>
                  <a:pt x="12976" y="8195"/>
                  <a:pt x="12998" y="8235"/>
                </a:cubicBezTo>
                <a:cubicBezTo>
                  <a:pt x="13028" y="8265"/>
                  <a:pt x="13039" y="8271"/>
                  <a:pt x="13031" y="8301"/>
                </a:cubicBezTo>
              </a:path>
              <a:path w="3076" h="1424">
                <a:moveTo>
                  <a:pt x="13295" y="7938"/>
                </a:moveTo>
                <a:cubicBezTo>
                  <a:pt x="13295" y="8004"/>
                  <a:pt x="13295" y="8026"/>
                  <a:pt x="13295" y="8070"/>
                </a:cubicBezTo>
                <a:cubicBezTo>
                  <a:pt x="13345" y="8087"/>
                  <a:pt x="13328" y="8110"/>
                  <a:pt x="13328" y="8169"/>
                </a:cubicBezTo>
                <a:cubicBezTo>
                  <a:pt x="13381" y="8187"/>
                  <a:pt x="13389" y="8232"/>
                  <a:pt x="13395" y="8301"/>
                </a:cubicBezTo>
                <a:cubicBezTo>
                  <a:pt x="13400" y="8358"/>
                  <a:pt x="13378" y="8350"/>
                  <a:pt x="13428" y="8367"/>
                </a:cubicBezTo>
              </a:path>
              <a:path w="3076" h="1424">
                <a:moveTo>
                  <a:pt x="13262" y="7772"/>
                </a:moveTo>
                <a:cubicBezTo>
                  <a:pt x="13331" y="7772"/>
                  <a:pt x="13328" y="7775"/>
                  <a:pt x="13328" y="7706"/>
                </a:cubicBezTo>
              </a:path>
              <a:path w="3076" h="1424">
                <a:moveTo>
                  <a:pt x="13725" y="8334"/>
                </a:moveTo>
                <a:cubicBezTo>
                  <a:pt x="13725" y="8213"/>
                  <a:pt x="13724" y="8107"/>
                  <a:pt x="13758" y="8004"/>
                </a:cubicBezTo>
                <a:cubicBezTo>
                  <a:pt x="13766" y="7979"/>
                  <a:pt x="13758" y="7931"/>
                  <a:pt x="13758" y="7904"/>
                </a:cubicBezTo>
                <a:cubicBezTo>
                  <a:pt x="13833" y="7904"/>
                  <a:pt x="13803" y="7878"/>
                  <a:pt x="13858" y="7871"/>
                </a:cubicBezTo>
                <a:cubicBezTo>
                  <a:pt x="13921" y="7863"/>
                  <a:pt x="13978" y="7863"/>
                  <a:pt x="14023" y="7904"/>
                </a:cubicBezTo>
                <a:cubicBezTo>
                  <a:pt x="14057" y="7935"/>
                  <a:pt x="14085" y="7975"/>
                  <a:pt x="14089" y="8004"/>
                </a:cubicBezTo>
                <a:cubicBezTo>
                  <a:pt x="14095" y="8053"/>
                  <a:pt x="14097" y="8098"/>
                  <a:pt x="14122" y="8136"/>
                </a:cubicBezTo>
                <a:cubicBezTo>
                  <a:pt x="14157" y="8189"/>
                  <a:pt x="14155" y="8202"/>
                  <a:pt x="14155" y="8268"/>
                </a:cubicBezTo>
                <a:cubicBezTo>
                  <a:pt x="14155" y="8312"/>
                  <a:pt x="14155" y="8357"/>
                  <a:pt x="14155" y="8401"/>
                </a:cubicBezTo>
              </a:path>
              <a:path w="3076" h="1424">
                <a:moveTo>
                  <a:pt x="14354" y="8070"/>
                </a:moveTo>
                <a:cubicBezTo>
                  <a:pt x="14420" y="8070"/>
                  <a:pt x="14486" y="8070"/>
                  <a:pt x="14552" y="8070"/>
                </a:cubicBezTo>
                <a:cubicBezTo>
                  <a:pt x="14552" y="7996"/>
                  <a:pt x="14578" y="8025"/>
                  <a:pt x="14585" y="7971"/>
                </a:cubicBezTo>
                <a:cubicBezTo>
                  <a:pt x="14592" y="7917"/>
                  <a:pt x="14618" y="7945"/>
                  <a:pt x="14618" y="7871"/>
                </a:cubicBezTo>
                <a:cubicBezTo>
                  <a:pt x="14618" y="7801"/>
                  <a:pt x="14575" y="7805"/>
                  <a:pt x="14519" y="7805"/>
                </a:cubicBezTo>
                <a:cubicBezTo>
                  <a:pt x="14444" y="7805"/>
                  <a:pt x="14415" y="7818"/>
                  <a:pt x="14354" y="7838"/>
                </a:cubicBezTo>
                <a:cubicBezTo>
                  <a:pt x="14323" y="7848"/>
                  <a:pt x="14292" y="7906"/>
                  <a:pt x="14288" y="7938"/>
                </a:cubicBezTo>
                <a:cubicBezTo>
                  <a:pt x="14275" y="8045"/>
                  <a:pt x="14292" y="8176"/>
                  <a:pt x="14321" y="8235"/>
                </a:cubicBezTo>
                <a:cubicBezTo>
                  <a:pt x="14336" y="8265"/>
                  <a:pt x="14324" y="8347"/>
                  <a:pt x="14354" y="8367"/>
                </a:cubicBezTo>
                <a:cubicBezTo>
                  <a:pt x="14390" y="8391"/>
                  <a:pt x="14437" y="8401"/>
                  <a:pt x="14486" y="8401"/>
                </a:cubicBezTo>
                <a:cubicBezTo>
                  <a:pt x="14541" y="8401"/>
                  <a:pt x="14596" y="8401"/>
                  <a:pt x="14651" y="8401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Ink 6"/>
          <p:cNvSpPr/>
          <p:nvPr/>
        </p:nvSpPr>
        <p:spPr>
          <a:xfrm>
            <a:off x="5464080" y="5048280"/>
            <a:ext cx="274680" cy="108000"/>
          </a:xfrm>
          <a:custGeom>
            <a:avLst/>
            <a:gdLst/>
            <a:ahLst/>
            <a:rect l="l" t="t" r="r" b="b"/>
            <a:pathLst>
              <a:path w="762" h="299">
                <a:moveTo>
                  <a:pt x="15180" y="14321"/>
                </a:moveTo>
                <a:cubicBezTo>
                  <a:pt x="15180" y="14310"/>
                  <a:pt x="15180" y="14299"/>
                  <a:pt x="15180" y="14288"/>
                </a:cubicBezTo>
              </a:path>
              <a:path w="762" h="299">
                <a:moveTo>
                  <a:pt x="15842" y="14023"/>
                </a:moveTo>
                <a:cubicBezTo>
                  <a:pt x="15881" y="14033"/>
                  <a:pt x="15902" y="14046"/>
                  <a:pt x="15941" y="14056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Ink 7"/>
          <p:cNvSpPr/>
          <p:nvPr/>
        </p:nvSpPr>
        <p:spPr>
          <a:xfrm>
            <a:off x="4370400" y="4952880"/>
            <a:ext cx="1619280" cy="452520"/>
          </a:xfrm>
          <a:custGeom>
            <a:avLst/>
            <a:gdLst/>
            <a:ahLst/>
            <a:rect l="l" t="t" r="r" b="b"/>
            <a:pathLst>
              <a:path w="4499" h="1258">
                <a:moveTo>
                  <a:pt x="12369" y="14089"/>
                </a:moveTo>
                <a:cubicBezTo>
                  <a:pt x="12369" y="14056"/>
                  <a:pt x="12369" y="14045"/>
                  <a:pt x="12369" y="14023"/>
                </a:cubicBezTo>
                <a:cubicBezTo>
                  <a:pt x="12280" y="14023"/>
                  <a:pt x="12216" y="14033"/>
                  <a:pt x="12171" y="14056"/>
                </a:cubicBezTo>
                <a:cubicBezTo>
                  <a:pt x="12125" y="14079"/>
                  <a:pt x="12138" y="14091"/>
                  <a:pt x="12138" y="14155"/>
                </a:cubicBezTo>
                <a:cubicBezTo>
                  <a:pt x="12138" y="14244"/>
                  <a:pt x="12148" y="14309"/>
                  <a:pt x="12171" y="14354"/>
                </a:cubicBezTo>
                <a:cubicBezTo>
                  <a:pt x="12201" y="14414"/>
                  <a:pt x="12145" y="14420"/>
                  <a:pt x="12237" y="14420"/>
                </a:cubicBezTo>
                <a:cubicBezTo>
                  <a:pt x="12318" y="14420"/>
                  <a:pt x="12363" y="14406"/>
                  <a:pt x="12402" y="14387"/>
                </a:cubicBezTo>
                <a:cubicBezTo>
                  <a:pt x="12461" y="14358"/>
                  <a:pt x="12468" y="14364"/>
                  <a:pt x="12468" y="14288"/>
                </a:cubicBezTo>
                <a:cubicBezTo>
                  <a:pt x="12468" y="14222"/>
                  <a:pt x="12468" y="14155"/>
                  <a:pt x="12468" y="14089"/>
                </a:cubicBezTo>
                <a:cubicBezTo>
                  <a:pt x="12468" y="14287"/>
                  <a:pt x="12462" y="14539"/>
                  <a:pt x="12502" y="14684"/>
                </a:cubicBezTo>
                <a:cubicBezTo>
                  <a:pt x="12528" y="14777"/>
                  <a:pt x="12502" y="14918"/>
                  <a:pt x="12502" y="15015"/>
                </a:cubicBezTo>
                <a:cubicBezTo>
                  <a:pt x="12607" y="15015"/>
                  <a:pt x="12521" y="14987"/>
                  <a:pt x="12568" y="14949"/>
                </a:cubicBezTo>
                <a:cubicBezTo>
                  <a:pt x="12617" y="14910"/>
                  <a:pt x="12568" y="14909"/>
                  <a:pt x="12601" y="14850"/>
                </a:cubicBezTo>
                <a:cubicBezTo>
                  <a:pt x="12633" y="14792"/>
                  <a:pt x="12675" y="14784"/>
                  <a:pt x="12733" y="14784"/>
                </a:cubicBezTo>
                <a:cubicBezTo>
                  <a:pt x="12766" y="14784"/>
                  <a:pt x="12777" y="14784"/>
                  <a:pt x="12799" y="14784"/>
                </a:cubicBezTo>
              </a:path>
              <a:path w="4499" h="1258">
                <a:moveTo>
                  <a:pt x="12667" y="14155"/>
                </a:moveTo>
                <a:cubicBezTo>
                  <a:pt x="12667" y="14242"/>
                  <a:pt x="12649" y="14349"/>
                  <a:pt x="12700" y="14387"/>
                </a:cubicBezTo>
                <a:cubicBezTo>
                  <a:pt x="12750" y="14425"/>
                  <a:pt x="12768" y="14420"/>
                  <a:pt x="12832" y="14420"/>
                </a:cubicBezTo>
                <a:cubicBezTo>
                  <a:pt x="12876" y="14420"/>
                  <a:pt x="12921" y="14420"/>
                  <a:pt x="12965" y="14420"/>
                </a:cubicBezTo>
                <a:cubicBezTo>
                  <a:pt x="12965" y="14338"/>
                  <a:pt x="12979" y="14293"/>
                  <a:pt x="12998" y="14254"/>
                </a:cubicBezTo>
                <a:cubicBezTo>
                  <a:pt x="13012" y="14226"/>
                  <a:pt x="12998" y="14153"/>
                  <a:pt x="12998" y="14122"/>
                </a:cubicBezTo>
                <a:cubicBezTo>
                  <a:pt x="12998" y="14222"/>
                  <a:pt x="12971" y="14408"/>
                  <a:pt x="13031" y="14453"/>
                </a:cubicBezTo>
                <a:cubicBezTo>
                  <a:pt x="13072" y="14484"/>
                  <a:pt x="13111" y="14513"/>
                  <a:pt x="13163" y="14519"/>
                </a:cubicBezTo>
                <a:cubicBezTo>
                  <a:pt x="13196" y="14519"/>
                  <a:pt x="13207" y="14519"/>
                  <a:pt x="13229" y="14519"/>
                </a:cubicBezTo>
              </a:path>
              <a:path w="4499" h="1258">
                <a:moveTo>
                  <a:pt x="13494" y="14122"/>
                </a:moveTo>
                <a:cubicBezTo>
                  <a:pt x="13417" y="14122"/>
                  <a:pt x="13398" y="14128"/>
                  <a:pt x="13361" y="14155"/>
                </a:cubicBezTo>
                <a:cubicBezTo>
                  <a:pt x="13291" y="14205"/>
                  <a:pt x="13285" y="14228"/>
                  <a:pt x="13262" y="14321"/>
                </a:cubicBezTo>
                <a:cubicBezTo>
                  <a:pt x="13243" y="14397"/>
                  <a:pt x="13280" y="14456"/>
                  <a:pt x="13295" y="14486"/>
                </a:cubicBezTo>
                <a:cubicBezTo>
                  <a:pt x="13318" y="14532"/>
                  <a:pt x="13331" y="14519"/>
                  <a:pt x="13395" y="14519"/>
                </a:cubicBezTo>
                <a:cubicBezTo>
                  <a:pt x="13428" y="14519"/>
                  <a:pt x="13461" y="14519"/>
                  <a:pt x="13494" y="14519"/>
                </a:cubicBezTo>
                <a:cubicBezTo>
                  <a:pt x="13494" y="14420"/>
                  <a:pt x="13494" y="14320"/>
                  <a:pt x="13494" y="14221"/>
                </a:cubicBezTo>
                <a:cubicBezTo>
                  <a:pt x="13494" y="14303"/>
                  <a:pt x="13507" y="14348"/>
                  <a:pt x="13527" y="14387"/>
                </a:cubicBezTo>
                <a:cubicBezTo>
                  <a:pt x="13543" y="14420"/>
                  <a:pt x="13583" y="14433"/>
                  <a:pt x="13593" y="14453"/>
                </a:cubicBezTo>
                <a:cubicBezTo>
                  <a:pt x="13625" y="14517"/>
                  <a:pt x="13666" y="14487"/>
                  <a:pt x="13692" y="14519"/>
                </a:cubicBezTo>
                <a:cubicBezTo>
                  <a:pt x="13722" y="14557"/>
                  <a:pt x="13721" y="14552"/>
                  <a:pt x="13791" y="14552"/>
                </a:cubicBezTo>
                <a:cubicBezTo>
                  <a:pt x="13829" y="14552"/>
                  <a:pt x="13843" y="14549"/>
                  <a:pt x="13858" y="14519"/>
                </a:cubicBezTo>
              </a:path>
              <a:path w="4499" h="1258">
                <a:moveTo>
                  <a:pt x="14023" y="13758"/>
                </a:moveTo>
                <a:cubicBezTo>
                  <a:pt x="14023" y="13847"/>
                  <a:pt x="14033" y="13911"/>
                  <a:pt x="14056" y="13957"/>
                </a:cubicBezTo>
                <a:cubicBezTo>
                  <a:pt x="14079" y="14003"/>
                  <a:pt x="14077" y="14098"/>
                  <a:pt x="14089" y="14122"/>
                </a:cubicBezTo>
                <a:cubicBezTo>
                  <a:pt x="14101" y="14147"/>
                  <a:pt x="14114" y="14230"/>
                  <a:pt x="14122" y="14254"/>
                </a:cubicBezTo>
                <a:cubicBezTo>
                  <a:pt x="14145" y="14325"/>
                  <a:pt x="14122" y="14444"/>
                  <a:pt x="14122" y="14519"/>
                </a:cubicBezTo>
                <a:cubicBezTo>
                  <a:pt x="14172" y="14502"/>
                  <a:pt x="14155" y="14479"/>
                  <a:pt x="14155" y="14420"/>
                </a:cubicBezTo>
                <a:cubicBezTo>
                  <a:pt x="14155" y="14353"/>
                  <a:pt x="14140" y="14342"/>
                  <a:pt x="14122" y="14288"/>
                </a:cubicBezTo>
                <a:cubicBezTo>
                  <a:pt x="14096" y="14210"/>
                  <a:pt x="14060" y="14301"/>
                  <a:pt x="14023" y="14254"/>
                </a:cubicBezTo>
                <a:cubicBezTo>
                  <a:pt x="13993" y="14216"/>
                  <a:pt x="13994" y="14221"/>
                  <a:pt x="13924" y="14221"/>
                </a:cubicBezTo>
                <a:cubicBezTo>
                  <a:pt x="13891" y="14221"/>
                  <a:pt x="13880" y="14221"/>
                  <a:pt x="13858" y="14221"/>
                </a:cubicBezTo>
                <a:cubicBezTo>
                  <a:pt x="13858" y="14309"/>
                  <a:pt x="13858" y="14398"/>
                  <a:pt x="13858" y="14486"/>
                </a:cubicBezTo>
                <a:cubicBezTo>
                  <a:pt x="13932" y="14486"/>
                  <a:pt x="13903" y="14512"/>
                  <a:pt x="13957" y="14519"/>
                </a:cubicBezTo>
                <a:cubicBezTo>
                  <a:pt x="14031" y="14528"/>
                  <a:pt x="14113" y="14519"/>
                  <a:pt x="14188" y="14519"/>
                </a:cubicBezTo>
              </a:path>
              <a:path w="4499" h="1258">
                <a:moveTo>
                  <a:pt x="14354" y="14254"/>
                </a:moveTo>
                <a:cubicBezTo>
                  <a:pt x="14370" y="14305"/>
                  <a:pt x="14387" y="14283"/>
                  <a:pt x="14387" y="14354"/>
                </a:cubicBezTo>
                <a:cubicBezTo>
                  <a:pt x="14387" y="14422"/>
                  <a:pt x="14406" y="14425"/>
                  <a:pt x="14420" y="14453"/>
                </a:cubicBezTo>
                <a:cubicBezTo>
                  <a:pt x="14429" y="14472"/>
                  <a:pt x="14420" y="14670"/>
                  <a:pt x="14420" y="14585"/>
                </a:cubicBezTo>
                <a:cubicBezTo>
                  <a:pt x="14420" y="14473"/>
                  <a:pt x="14418" y="14383"/>
                  <a:pt x="14387" y="14288"/>
                </a:cubicBezTo>
                <a:cubicBezTo>
                  <a:pt x="14375" y="14253"/>
                  <a:pt x="14387" y="14192"/>
                  <a:pt x="14387" y="14155"/>
                </a:cubicBezTo>
                <a:cubicBezTo>
                  <a:pt x="14442" y="14155"/>
                  <a:pt x="14497" y="14155"/>
                  <a:pt x="14552" y="14155"/>
                </a:cubicBezTo>
              </a:path>
              <a:path w="4499" h="1258">
                <a:moveTo>
                  <a:pt x="14817" y="14254"/>
                </a:moveTo>
                <a:cubicBezTo>
                  <a:pt x="14817" y="14322"/>
                  <a:pt x="14798" y="14326"/>
                  <a:pt x="14784" y="14354"/>
                </a:cubicBezTo>
                <a:cubicBezTo>
                  <a:pt x="14769" y="14383"/>
                  <a:pt x="14755" y="14444"/>
                  <a:pt x="14751" y="14453"/>
                </a:cubicBezTo>
                <a:cubicBezTo>
                  <a:pt x="14737" y="14480"/>
                  <a:pt x="14751" y="14554"/>
                  <a:pt x="14751" y="14585"/>
                </a:cubicBezTo>
                <a:cubicBezTo>
                  <a:pt x="14805" y="14585"/>
                  <a:pt x="14857" y="14577"/>
                  <a:pt x="14883" y="14519"/>
                </a:cubicBezTo>
                <a:cubicBezTo>
                  <a:pt x="14899" y="14482"/>
                  <a:pt x="14938" y="14476"/>
                  <a:pt x="14949" y="14453"/>
                </a:cubicBezTo>
                <a:cubicBezTo>
                  <a:pt x="14963" y="14426"/>
                  <a:pt x="14949" y="14352"/>
                  <a:pt x="14949" y="14321"/>
                </a:cubicBezTo>
                <a:cubicBezTo>
                  <a:pt x="14949" y="14362"/>
                  <a:pt x="14960" y="14409"/>
                  <a:pt x="14982" y="14420"/>
                </a:cubicBezTo>
                <a:cubicBezTo>
                  <a:pt x="15025" y="14442"/>
                  <a:pt x="15034" y="14473"/>
                  <a:pt x="15081" y="14486"/>
                </a:cubicBezTo>
                <a:cubicBezTo>
                  <a:pt x="15154" y="14506"/>
                  <a:pt x="15139" y="14519"/>
                  <a:pt x="15214" y="14519"/>
                </a:cubicBezTo>
              </a:path>
              <a:path w="4499" h="1258">
                <a:moveTo>
                  <a:pt x="15346" y="13824"/>
                </a:moveTo>
                <a:cubicBezTo>
                  <a:pt x="15346" y="13946"/>
                  <a:pt x="15351" y="14041"/>
                  <a:pt x="15379" y="14155"/>
                </a:cubicBezTo>
                <a:cubicBezTo>
                  <a:pt x="15398" y="14232"/>
                  <a:pt x="15416" y="14282"/>
                  <a:pt x="15445" y="14354"/>
                </a:cubicBezTo>
                <a:cubicBezTo>
                  <a:pt x="15459" y="14389"/>
                  <a:pt x="15445" y="14447"/>
                  <a:pt x="15445" y="14486"/>
                </a:cubicBezTo>
                <a:cubicBezTo>
                  <a:pt x="15487" y="14500"/>
                  <a:pt x="15478" y="14629"/>
                  <a:pt x="15478" y="14585"/>
                </a:cubicBezTo>
                <a:cubicBezTo>
                  <a:pt x="15478" y="14574"/>
                  <a:pt x="15478" y="14563"/>
                  <a:pt x="15478" y="14552"/>
                </a:cubicBezTo>
              </a:path>
              <a:path w="4499" h="1258">
                <a:moveTo>
                  <a:pt x="15247" y="14288"/>
                </a:moveTo>
                <a:cubicBezTo>
                  <a:pt x="15379" y="14288"/>
                  <a:pt x="15511" y="14288"/>
                  <a:pt x="15643" y="14288"/>
                </a:cubicBezTo>
              </a:path>
              <a:path w="4499" h="1258">
                <a:moveTo>
                  <a:pt x="15875" y="14288"/>
                </a:moveTo>
                <a:cubicBezTo>
                  <a:pt x="15875" y="14299"/>
                  <a:pt x="15875" y="14310"/>
                  <a:pt x="15875" y="14321"/>
                </a:cubicBezTo>
                <a:cubicBezTo>
                  <a:pt x="15919" y="14336"/>
                  <a:pt x="15937" y="14389"/>
                  <a:pt x="15941" y="14453"/>
                </a:cubicBezTo>
                <a:cubicBezTo>
                  <a:pt x="15947" y="14542"/>
                  <a:pt x="15950" y="14578"/>
                  <a:pt x="15974" y="14651"/>
                </a:cubicBezTo>
                <a:cubicBezTo>
                  <a:pt x="15974" y="14684"/>
                  <a:pt x="15974" y="14695"/>
                  <a:pt x="15974" y="14651"/>
                </a:cubicBezTo>
              </a:path>
              <a:path w="4499" h="1258">
                <a:moveTo>
                  <a:pt x="16338" y="14321"/>
                </a:moveTo>
                <a:cubicBezTo>
                  <a:pt x="16338" y="14310"/>
                  <a:pt x="16338" y="14299"/>
                  <a:pt x="16338" y="14288"/>
                </a:cubicBezTo>
                <a:cubicBezTo>
                  <a:pt x="16283" y="14288"/>
                  <a:pt x="16228" y="14288"/>
                  <a:pt x="16173" y="14288"/>
                </a:cubicBezTo>
                <a:cubicBezTo>
                  <a:pt x="16173" y="14365"/>
                  <a:pt x="16173" y="14442"/>
                  <a:pt x="16173" y="14519"/>
                </a:cubicBezTo>
                <a:cubicBezTo>
                  <a:pt x="16203" y="14529"/>
                  <a:pt x="16225" y="14575"/>
                  <a:pt x="16239" y="14618"/>
                </a:cubicBezTo>
                <a:cubicBezTo>
                  <a:pt x="16239" y="14629"/>
                  <a:pt x="16239" y="14640"/>
                  <a:pt x="16239" y="14651"/>
                </a:cubicBezTo>
                <a:cubicBezTo>
                  <a:pt x="16368" y="14651"/>
                  <a:pt x="16491" y="14655"/>
                  <a:pt x="16603" y="14618"/>
                </a:cubicBezTo>
                <a:cubicBezTo>
                  <a:pt x="16614" y="14618"/>
                  <a:pt x="16625" y="14618"/>
                  <a:pt x="16636" y="14618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Slide Number Placeholder 6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B2038-0FDE-47B3-AF43-7B2A8C4B1FF9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Rectangle 16"/>
          <p:cNvSpPr/>
          <p:nvPr/>
        </p:nvSpPr>
        <p:spPr>
          <a:xfrm>
            <a:off x="3048120" y="6324480"/>
            <a:ext cx="2895480" cy="1320840"/>
          </a:xfrm>
          <a:prstGeom prst="rect">
            <a:avLst/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rapezoid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Object 3"/>
              <p:cNvSpPr txBox="1"/>
              <p:nvPr/>
            </p:nvSpPr>
            <p:spPr>
              <a:xfrm>
                <a:off x="304920" y="2057400"/>
                <a:ext cx="3333600" cy="95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−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den>
                    </m:f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Text Box 4"/>
          <p:cNvSpPr/>
          <p:nvPr/>
        </p:nvSpPr>
        <p:spPr>
          <a:xfrm>
            <a:off x="228600" y="3759120"/>
            <a:ext cx="51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Line 5"/>
          <p:cNvSpPr/>
          <p:nvPr/>
        </p:nvSpPr>
        <p:spPr>
          <a:xfrm flipV="1">
            <a:off x="399960" y="4165560"/>
            <a:ext cx="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Line 6"/>
          <p:cNvSpPr/>
          <p:nvPr/>
        </p:nvSpPr>
        <p:spPr>
          <a:xfrm>
            <a:off x="399960" y="6908760"/>
            <a:ext cx="2171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6" name="Object 7"/>
              <p:cNvSpPr txBox="1"/>
              <p:nvPr/>
            </p:nvSpPr>
            <p:spPr>
              <a:xfrm>
                <a:off x="971640" y="7010280"/>
                <a:ext cx="1143000" cy="52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7" name="Freeform 8"/>
          <p:cNvSpPr/>
          <p:nvPr/>
        </p:nvSpPr>
        <p:spPr>
          <a:xfrm>
            <a:off x="685800" y="4267080"/>
            <a:ext cx="2000160" cy="1930680"/>
          </a:xfrm>
          <a:custGeom>
            <a:avLst/>
            <a:gdLst>
              <a:gd name="textAreaLeft" fmla="*/ 0 w 2000160"/>
              <a:gd name="textAreaRight" fmla="*/ 2000520 w 2000160"/>
              <a:gd name="textAreaTop" fmla="*/ 0 h 1930680"/>
              <a:gd name="textAreaBottom" fmla="*/ 1931040 h 1930680"/>
            </a:gdLst>
            <a:ahLst/>
            <a:rect l="textAreaLeft" t="textAreaTop" r="textAreaRight" b="textAreaBottom"/>
            <a:pathLst>
              <a:path w="2064" h="912">
                <a:moveTo>
                  <a:pt x="0" y="488"/>
                </a:moveTo>
                <a:cubicBezTo>
                  <a:pt x="116" y="680"/>
                  <a:pt x="232" y="872"/>
                  <a:pt x="384" y="824"/>
                </a:cubicBezTo>
                <a:cubicBezTo>
                  <a:pt x="536" y="776"/>
                  <a:pt x="744" y="320"/>
                  <a:pt x="912" y="200"/>
                </a:cubicBezTo>
                <a:cubicBezTo>
                  <a:pt x="1080" y="80"/>
                  <a:pt x="1240" y="0"/>
                  <a:pt x="1392" y="104"/>
                </a:cubicBezTo>
                <a:cubicBezTo>
                  <a:pt x="1544" y="208"/>
                  <a:pt x="1712" y="736"/>
                  <a:pt x="1824" y="824"/>
                </a:cubicBezTo>
                <a:cubicBezTo>
                  <a:pt x="1936" y="912"/>
                  <a:pt x="2024" y="664"/>
                  <a:pt x="2064" y="63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Line 9"/>
          <p:cNvSpPr/>
          <p:nvPr/>
        </p:nvSpPr>
        <p:spPr>
          <a:xfrm flipV="1">
            <a:off x="1028880" y="5994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Line 10"/>
          <p:cNvSpPr/>
          <p:nvPr/>
        </p:nvSpPr>
        <p:spPr>
          <a:xfrm flipV="1">
            <a:off x="2057400" y="447012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Line 11"/>
          <p:cNvSpPr/>
          <p:nvPr/>
        </p:nvSpPr>
        <p:spPr>
          <a:xfrm flipV="1">
            <a:off x="1028880" y="4470120"/>
            <a:ext cx="1028520" cy="1523880"/>
          </a:xfrm>
          <a:prstGeom prst="line">
            <a:avLst/>
          </a:prstGeom>
          <a:ln w="2844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Rectangle 12"/>
          <p:cNvSpPr/>
          <p:nvPr/>
        </p:nvSpPr>
        <p:spPr>
          <a:xfrm>
            <a:off x="1028880" y="5994360"/>
            <a:ext cx="1028520" cy="914400"/>
          </a:xfrm>
          <a:prstGeom prst="rect">
            <a:avLst/>
          </a:prstGeom>
          <a:solidFill>
            <a:srgbClr val="00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AutoShape 13"/>
          <p:cNvSpPr/>
          <p:nvPr/>
        </p:nvSpPr>
        <p:spPr>
          <a:xfrm flipH="1">
            <a:off x="1028160" y="4470480"/>
            <a:ext cx="1028520" cy="1523880"/>
          </a:xfrm>
          <a:prstGeom prst="rtTriangle">
            <a:avLst/>
          </a:prstGeom>
          <a:solidFill>
            <a:srgbClr val="00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Line 14"/>
          <p:cNvSpPr/>
          <p:nvPr/>
        </p:nvSpPr>
        <p:spPr>
          <a:xfrm flipH="1" flipV="1">
            <a:off x="1523880" y="2971440"/>
            <a:ext cx="76320" cy="2057400"/>
          </a:xfrm>
          <a:prstGeom prst="line">
            <a:avLst/>
          </a:prstGeom>
          <a:ln w="3816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4" name="Object 15"/>
              <p:cNvSpPr txBox="1"/>
              <p:nvPr/>
            </p:nvSpPr>
            <p:spPr>
              <a:xfrm>
                <a:off x="2438280" y="2819520"/>
                <a:ext cx="4191120" cy="131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I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I</m:t>
                        </m:r>
                        <m:r>
                          <m:t xml:space="preserve">≈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b</m:t>
                                    </m:r>
                                    <m:r>
                                      <m:t xml:space="preserve">)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f</m:t>
                                    </m:r>
                                    <m:r>
                                      <m:t xml:space="preserve">(</m:t>
                                    </m:r>
                                    <m:r>
                                      <m:t xml:space="preserve">a</m:t>
                                    </m:r>
                                    <m:r>
                                      <m:t xml:space="preserve">)</m:t>
                                    </m:r>
                                  </m:num>
                                  <m:den>
                                    <m:r>
                                      <m:t xml:space="preserve">b</m:t>
                                    </m:r>
                                    <m:r>
                                      <m:t xml:space="preserve">−</m:t>
                                    </m:r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225" name="Line 17"/>
          <p:cNvSpPr/>
          <p:nvPr/>
        </p:nvSpPr>
        <p:spPr>
          <a:xfrm>
            <a:off x="1600200" y="6197760"/>
            <a:ext cx="2114640" cy="1015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TextBox 20"/>
          <p:cNvSpPr/>
          <p:nvPr/>
        </p:nvSpPr>
        <p:spPr>
          <a:xfrm>
            <a:off x="769680" y="2895480"/>
            <a:ext cx="39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27" name="Straight Arrow Connector 22"/>
          <p:cNvCxnSpPr/>
          <p:nvPr/>
        </p:nvCxnSpPr>
        <p:spPr>
          <a:xfrm flipV="1">
            <a:off x="1143000" y="2666160"/>
            <a:ext cx="457920" cy="381960"/>
          </a:xfrm>
          <a:prstGeom prst="straightConnector1">
            <a:avLst/>
          </a:prstGeom>
          <a:ln w="38160">
            <a:solidFill>
              <a:srgbClr val="98cc00"/>
            </a:solidFill>
            <a:miter/>
            <a:tailEnd len="med" type="arrow" w="med"/>
          </a:ln>
        </p:spPr>
      </p:cxnSp>
      <p:sp>
        <p:nvSpPr>
          <p:cNvPr id="228" name="TextBox 23"/>
          <p:cNvSpPr/>
          <p:nvPr/>
        </p:nvSpPr>
        <p:spPr>
          <a:xfrm>
            <a:off x="3900600" y="2133720"/>
            <a:ext cx="258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his looks like y=b+mx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TextBox 24"/>
          <p:cNvSpPr/>
          <p:nvPr/>
        </p:nvSpPr>
        <p:spPr>
          <a:xfrm>
            <a:off x="232560" y="1981080"/>
            <a:ext cx="3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cxnSp>
        <p:nvCxnSpPr>
          <p:cNvPr id="230" name="Straight Arrow Connector 25"/>
          <p:cNvCxnSpPr/>
          <p:nvPr/>
        </p:nvCxnSpPr>
        <p:spPr>
          <a:xfrm>
            <a:off x="380520" y="2209680"/>
            <a:ext cx="381960" cy="153360"/>
          </a:xfrm>
          <a:prstGeom prst="straightConnector1">
            <a:avLst/>
          </a:prstGeom>
          <a:ln w="38160">
            <a:solidFill>
              <a:srgbClr val="98cc00"/>
            </a:solidFill>
            <a:miter/>
            <a:tailEnd len="med" type="arrow" w="med"/>
          </a:ln>
        </p:spPr>
      </p:cxnSp>
      <mc:AlternateContent>
        <mc:Choice xmlns:a14="http://schemas.microsoft.com/office/drawing/2010/main" Requires="a14">
          <p:sp>
            <p:nvSpPr>
              <p:cNvPr id="231" name="Object 19"/>
              <p:cNvSpPr txBox="1"/>
              <p:nvPr/>
            </p:nvSpPr>
            <p:spPr>
              <a:xfrm>
                <a:off x="2514600" y="4038480"/>
                <a:ext cx="396864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 </m:t>
                        </m:r>
                        <m:r>
                          <m:t xml:space="preserve">=</m:t>
                        </m:r>
                        <m:r>
                          <m:t xml:space="preserve"> 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f>
                              <m:num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b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a</m:t>
                                </m:r>
                                <m:r>
                                  <m:t xml:space="preserve">)</m:t>
                                </m:r>
                              </m:num>
                              <m:den>
                                <m:r>
                                  <m:t xml:space="preserve">b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x</m:t>
                        </m:r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  <m:e>
                        <m:r>
                          <m:t xml:space="preserve"> </m:t>
                        </m:r>
                        <m:r>
                          <m:t xml:space="preserve">+</m:t>
                        </m:r>
                        <m:f>
                          <m:num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b</m:t>
                            </m:r>
                            <m:r>
                              <m:t xml:space="preserve">)</m:t>
                            </m:r>
                            <m:r>
                              <m:t xml:space="preserve">−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den>
                        </m:f>
                        <m:f>
                          <m:num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sSubSup>
                          <m:e>
                            <m:r>
                              <m:t xml:space="preserve">|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b</m:t>
                            </m:r>
                          </m:sup>
                        </m:sSubSup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2" name="Object 20"/>
              <p:cNvSpPr txBox="1"/>
              <p:nvPr/>
            </p:nvSpPr>
            <p:spPr>
              <a:xfrm>
                <a:off x="3048120" y="6477120"/>
                <a:ext cx="2895480" cy="99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 </m:t>
                    </m:r>
                    <m:r>
                      <m:t xml:space="preserve">=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e>
                    </m:d>
                    <m:f>
                      <m:num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3" name="Rectangle 30"/>
          <p:cNvSpPr/>
          <p:nvPr/>
        </p:nvSpPr>
        <p:spPr>
          <a:xfrm>
            <a:off x="3276720" y="3429000"/>
            <a:ext cx="609480" cy="685800"/>
          </a:xfrm>
          <a:prstGeom prst="rect">
            <a:avLst/>
          </a:prstGeom>
          <a:solidFill>
            <a:srgbClr val="99cc00">
              <a:alpha val="21000"/>
            </a:srgbClr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Rectangle 31"/>
          <p:cNvSpPr/>
          <p:nvPr/>
        </p:nvSpPr>
        <p:spPr>
          <a:xfrm>
            <a:off x="3429000" y="4038480"/>
            <a:ext cx="2819520" cy="685800"/>
          </a:xfrm>
          <a:prstGeom prst="rect">
            <a:avLst/>
          </a:prstGeom>
          <a:solidFill>
            <a:srgbClr val="99cc00">
              <a:alpha val="21000"/>
            </a:srgbClr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Rectangle 32"/>
          <p:cNvSpPr/>
          <p:nvPr/>
        </p:nvSpPr>
        <p:spPr>
          <a:xfrm>
            <a:off x="2971800" y="4952880"/>
            <a:ext cx="2209680" cy="685800"/>
          </a:xfrm>
          <a:prstGeom prst="rect">
            <a:avLst/>
          </a:prstGeom>
          <a:solidFill>
            <a:srgbClr val="ffff00">
              <a:alpha val="21000"/>
            </a:srgbClr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Rectangle 33"/>
          <p:cNvSpPr/>
          <p:nvPr/>
        </p:nvSpPr>
        <p:spPr>
          <a:xfrm>
            <a:off x="3962520" y="3352680"/>
            <a:ext cx="2209680" cy="685800"/>
          </a:xfrm>
          <a:prstGeom prst="rect">
            <a:avLst/>
          </a:prstGeom>
          <a:solidFill>
            <a:srgbClr val="ffff00">
              <a:alpha val="21000"/>
            </a:srgbClr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Ink 30"/>
          <p:cNvSpPr/>
          <p:nvPr/>
        </p:nvSpPr>
        <p:spPr>
          <a:xfrm>
            <a:off x="3286080" y="3703680"/>
            <a:ext cx="2965320" cy="119160"/>
          </a:xfrm>
          <a:custGeom>
            <a:avLst/>
            <a:gdLst/>
            <a:ahLst/>
            <a:rect l="l" t="t" r="r" b="b"/>
            <a:pathLst>
              <a:path w="8236" h="331">
                <a:moveTo>
                  <a:pt x="9128" y="10352"/>
                </a:moveTo>
                <a:cubicBezTo>
                  <a:pt x="9163" y="10359"/>
                  <a:pt x="9239" y="10383"/>
                  <a:pt x="9260" y="10385"/>
                </a:cubicBezTo>
                <a:cubicBezTo>
                  <a:pt x="9317" y="10390"/>
                  <a:pt x="9384" y="10413"/>
                  <a:pt x="9426" y="10418"/>
                </a:cubicBezTo>
                <a:cubicBezTo>
                  <a:pt x="9639" y="10442"/>
                  <a:pt x="9891" y="10435"/>
                  <a:pt x="10087" y="10451"/>
                </a:cubicBezTo>
                <a:cubicBezTo>
                  <a:pt x="10176" y="10458"/>
                  <a:pt x="10276" y="10472"/>
                  <a:pt x="10319" y="10484"/>
                </a:cubicBezTo>
                <a:cubicBezTo>
                  <a:pt x="10361" y="10496"/>
                  <a:pt x="10374" y="10512"/>
                  <a:pt x="10418" y="10517"/>
                </a:cubicBezTo>
                <a:cubicBezTo>
                  <a:pt x="10476" y="10524"/>
                  <a:pt x="10607" y="10549"/>
                  <a:pt x="10616" y="10550"/>
                </a:cubicBezTo>
                <a:cubicBezTo>
                  <a:pt x="11424" y="10651"/>
                  <a:pt x="12315" y="10414"/>
                  <a:pt x="13097" y="10583"/>
                </a:cubicBezTo>
                <a:cubicBezTo>
                  <a:pt x="13151" y="10595"/>
                  <a:pt x="13208" y="10610"/>
                  <a:pt x="13262" y="10616"/>
                </a:cubicBezTo>
                <a:cubicBezTo>
                  <a:pt x="14136" y="10713"/>
                  <a:pt x="15141" y="10648"/>
                  <a:pt x="16007" y="10583"/>
                </a:cubicBezTo>
                <a:cubicBezTo>
                  <a:pt x="16061" y="10579"/>
                  <a:pt x="16172" y="10550"/>
                  <a:pt x="16173" y="10550"/>
                </a:cubicBezTo>
                <a:cubicBezTo>
                  <a:pt x="16239" y="10543"/>
                  <a:pt x="16322" y="10523"/>
                  <a:pt x="16371" y="10517"/>
                </a:cubicBezTo>
                <a:cubicBezTo>
                  <a:pt x="16419" y="10512"/>
                  <a:pt x="16534" y="10484"/>
                  <a:pt x="16536" y="10484"/>
                </a:cubicBezTo>
                <a:cubicBezTo>
                  <a:pt x="16591" y="10478"/>
                  <a:pt x="16614" y="10458"/>
                  <a:pt x="16669" y="10451"/>
                </a:cubicBezTo>
                <a:cubicBezTo>
                  <a:pt x="16749" y="10441"/>
                  <a:pt x="16868" y="10423"/>
                  <a:pt x="16933" y="10418"/>
                </a:cubicBezTo>
                <a:cubicBezTo>
                  <a:pt x="17078" y="10406"/>
                  <a:pt x="17264" y="10408"/>
                  <a:pt x="17363" y="10385"/>
                </a:cubicBezTo>
                <a:cubicBezTo>
                  <a:pt x="17348" y="10379"/>
                  <a:pt x="17159" y="10297"/>
                  <a:pt x="17132" y="10286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8" name="Ink 31"/>
          <p:cNvSpPr/>
          <p:nvPr/>
        </p:nvSpPr>
        <p:spPr>
          <a:xfrm>
            <a:off x="3191040" y="3106800"/>
            <a:ext cx="452160" cy="12600"/>
          </a:xfrm>
          <a:custGeom>
            <a:avLst/>
            <a:gdLst/>
            <a:ahLst/>
            <a:rect l="l" t="t" r="r" b="b"/>
            <a:pathLst>
              <a:path w="1257" h="34">
                <a:moveTo>
                  <a:pt x="8864" y="8632"/>
                </a:moveTo>
                <a:cubicBezTo>
                  <a:pt x="9158" y="8632"/>
                  <a:pt x="9521" y="8585"/>
                  <a:pt x="9790" y="8665"/>
                </a:cubicBezTo>
                <a:cubicBezTo>
                  <a:pt x="9881" y="8692"/>
                  <a:pt x="10024" y="8665"/>
                  <a:pt x="10120" y="8665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Slide Number Placeholder 7"/>
          <p:cNvSpPr/>
          <p:nvPr/>
        </p:nvSpPr>
        <p:spPr>
          <a:xfrm>
            <a:off x="4915080" y="8331120"/>
            <a:ext cx="16002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C22F4-68DC-414A-9621-25F23449B6FA}" type="slidenum">
              <a:rPr b="0" lang="ar-SA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342720" y="369360"/>
            <a:ext cx="61722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9900"/>
                </a:solidFill>
                <a:latin typeface="Garamond"/>
              </a:rPr>
              <a:t>Trapezoid Metho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1" name="Object 16"/>
              <p:cNvSpPr txBox="1"/>
              <p:nvPr/>
            </p:nvSpPr>
            <p:spPr>
              <a:xfrm>
                <a:off x="343080" y="3556080"/>
                <a:ext cx="4410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2" name="Text Box 3"/>
          <p:cNvSpPr/>
          <p:nvPr/>
        </p:nvSpPr>
        <p:spPr>
          <a:xfrm>
            <a:off x="685800" y="2641680"/>
            <a:ext cx="62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(x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Line 4"/>
          <p:cNvSpPr/>
          <p:nvPr/>
        </p:nvSpPr>
        <p:spPr>
          <a:xfrm flipV="1">
            <a:off x="971640" y="3149280"/>
            <a:ext cx="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Line 5"/>
          <p:cNvSpPr/>
          <p:nvPr/>
        </p:nvSpPr>
        <p:spPr>
          <a:xfrm>
            <a:off x="971640" y="7112160"/>
            <a:ext cx="5600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Object 6"/>
              <p:cNvSpPr txBox="1"/>
              <p:nvPr/>
            </p:nvSpPr>
            <p:spPr>
              <a:xfrm>
                <a:off x="1257480" y="7315200"/>
                <a:ext cx="491472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 </m:t>
                    </m:r>
                    <m:r>
                      <m:t xml:space="preserve">b</m:t>
                    </m:r>
                    <m:r>
                      <m:t xml:space="preserve"> 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6" name="Freeform 7"/>
          <p:cNvSpPr/>
          <p:nvPr/>
        </p:nvSpPr>
        <p:spPr>
          <a:xfrm>
            <a:off x="1143000" y="3251160"/>
            <a:ext cx="5372280" cy="2360520"/>
          </a:xfrm>
          <a:custGeom>
            <a:avLst/>
            <a:gdLst>
              <a:gd name="textAreaLeft" fmla="*/ 0 w 5372280"/>
              <a:gd name="textAreaRight" fmla="*/ 5372640 w 5372280"/>
              <a:gd name="textAreaTop" fmla="*/ 0 h 2360520"/>
              <a:gd name="textAreaBottom" fmla="*/ 2360880 h 2360520"/>
            </a:gdLst>
            <a:ahLst/>
            <a:rect l="textAreaLeft" t="textAreaTop" r="textAreaRight" b="textAreaBottom"/>
            <a:pathLst>
              <a:path w="3504" h="810">
                <a:moveTo>
                  <a:pt x="0" y="471"/>
                </a:moveTo>
                <a:cubicBezTo>
                  <a:pt x="83" y="520"/>
                  <a:pt x="241" y="810"/>
                  <a:pt x="496" y="765"/>
                </a:cubicBezTo>
                <a:cubicBezTo>
                  <a:pt x="751" y="720"/>
                  <a:pt x="1229" y="323"/>
                  <a:pt x="1529" y="198"/>
                </a:cubicBezTo>
                <a:cubicBezTo>
                  <a:pt x="1829" y="73"/>
                  <a:pt x="2065" y="30"/>
                  <a:pt x="2297" y="15"/>
                </a:cubicBezTo>
                <a:cubicBezTo>
                  <a:pt x="2529" y="0"/>
                  <a:pt x="2718" y="6"/>
                  <a:pt x="2919" y="106"/>
                </a:cubicBezTo>
                <a:cubicBezTo>
                  <a:pt x="3120" y="206"/>
                  <a:pt x="3382" y="509"/>
                  <a:pt x="3504" y="615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7" name="Line 8"/>
          <p:cNvSpPr/>
          <p:nvPr/>
        </p:nvSpPr>
        <p:spPr>
          <a:xfrm flipV="1">
            <a:off x="1428840" y="5181120"/>
            <a:ext cx="0" cy="1930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8" name="Line 9"/>
          <p:cNvSpPr/>
          <p:nvPr/>
        </p:nvSpPr>
        <p:spPr>
          <a:xfrm flipV="1">
            <a:off x="5829480" y="3759120"/>
            <a:ext cx="0" cy="3353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Line 10"/>
          <p:cNvSpPr/>
          <p:nvPr/>
        </p:nvSpPr>
        <p:spPr>
          <a:xfrm flipV="1">
            <a:off x="1486080" y="3758760"/>
            <a:ext cx="4343400" cy="1422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Rectangle 11"/>
          <p:cNvSpPr/>
          <p:nvPr/>
        </p:nvSpPr>
        <p:spPr>
          <a:xfrm>
            <a:off x="1428840" y="5181480"/>
            <a:ext cx="4400640" cy="1930680"/>
          </a:xfrm>
          <a:prstGeom prst="rect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" name="AutoShape 12"/>
          <p:cNvSpPr/>
          <p:nvPr/>
        </p:nvSpPr>
        <p:spPr>
          <a:xfrm flipH="1">
            <a:off x="1542240" y="3759120"/>
            <a:ext cx="4286520" cy="1422360"/>
          </a:xfrm>
          <a:prstGeom prst="rtTriangle">
            <a:avLst/>
          </a:prstGeom>
          <a:solidFill>
            <a:srgbClr val="99cc0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2" name="Object 13"/>
              <p:cNvSpPr txBox="1"/>
              <p:nvPr/>
            </p:nvSpPr>
            <p:spPr>
              <a:xfrm>
                <a:off x="990720" y="5486400"/>
                <a:ext cx="5562360" cy="142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re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t xml:space="preserve">+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)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53" name="Line 20"/>
          <p:cNvSpPr/>
          <p:nvPr/>
        </p:nvSpPr>
        <p:spPr>
          <a:xfrm flipH="1">
            <a:off x="971280" y="5181480"/>
            <a:ext cx="3999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Line 21"/>
          <p:cNvSpPr/>
          <p:nvPr/>
        </p:nvSpPr>
        <p:spPr>
          <a:xfrm flipH="1">
            <a:off x="971640" y="3759120"/>
            <a:ext cx="48578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5" name="Object 22"/>
              <p:cNvSpPr txBox="1"/>
              <p:nvPr/>
            </p:nvSpPr>
            <p:spPr>
              <a:xfrm>
                <a:off x="343080" y="4978440"/>
                <a:ext cx="4968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4T22:58:36Z</dcterms:created>
  <dc:creator>Fadhelah</dc:creator>
  <dc:description/>
  <dc:language>en-US</dc:language>
  <cp:lastModifiedBy>sraja</cp:lastModifiedBy>
  <dcterms:modified xsi:type="dcterms:W3CDTF">2011-03-22T14:27:07Z</dcterms:modified>
  <cp:revision>89</cp:revision>
  <dc:subject/>
  <dc:title>Numerical Integration</dc:title>
</cp:coreProperties>
</file>